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F8E0-B61E-4090-8203-02A879970B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6C77-7EA4-408C-A151-7F764B00F9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EE81-D7EC-4615-9726-9BA2AF1A43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29D2-9932-4611-AF55-C4EAD05868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dication pof fatal die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living standard and literac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n death 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l technology (vaccines, antibiotics, new research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ECB6-C444-45D1-9039-166C3ADCA4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6D1-378B-4688-9C55-01C498DD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53D-0F12-4058-99A5-BAA135DA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21C-3677-4543-BC1B-9C0F098A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689-AA76-43AF-8114-9B3DAF86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7306-C620-448C-AB9E-BFD9A8A5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04F1-2885-4C7E-BA15-242B555D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7852-36EF-49DF-934F-59E26B02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B7E5-6E07-4947-8414-FE623EE1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E494-E635-4C6E-906F-44B5292D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E832-7ED2-4C03-AC43-E6863B8E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7EDF-61DB-4D72-AB26-9E404D2F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F4B-1E9F-47B4-AEA9-EAFCA65B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1CA0-5560-459F-B401-18718AB6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5056-4872-43FC-81E2-D2AC7B39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7AB0-5AFD-4C10-AC94-07180EA3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8FE4-9628-45CC-8FC3-F0C62B2D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770E-B95D-4D77-BA3B-1E0D50AF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1D8-D230-4E5F-A4FE-686FCC80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72B-2BA1-4E49-B184-DC7AEAA4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A70-CF58-4301-97CD-D74894F9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8FF-3810-49B5-952A-3A19744D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C4F-E6D3-4EBC-9E2D-43CFC1AD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AC0-D34D-4626-982C-FD92FEF9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48E-A414-4FDB-9280-A654E915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BFD7-55A7-4371-B79C-D9AFF06A22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8505-45F4-47EB-BC0E-53E8F2BE8DB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Picture 4" descr="jmqlw0my[1]"/>
          <p:cNvPicPr/>
          <p:nvPr/>
        </p:nvPicPr>
        <p:blipFill>
          <a:blip r:embed="rId1"/>
          <a:stretch/>
        </p:blipFill>
        <p:spPr>
          <a:xfrm>
            <a:off x="1828800" y="2438280"/>
            <a:ext cx="5334120" cy="37339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00"/>
                </a:solidFill>
                <a:uFillTx/>
                <a:latin typeface="Tahoma"/>
              </a:rPr>
              <a:t>Growth curve 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ally a growth curve of human population is </a:t>
            </a:r>
            <a:r>
              <a:rPr b="0" lang="en-US" sz="3200" spc="-1" strike="noStrike" u="sng">
                <a:solidFill>
                  <a:srgbClr val="e5e500"/>
                </a:solidFill>
                <a:uFillTx/>
                <a:latin typeface="Tahoma"/>
              </a:rPr>
              <a:t>S-sha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growth stops abruptly a </a:t>
            </a:r>
            <a:r>
              <a:rPr b="0" lang="en-US" sz="3200" spc="-1" strike="noStrike" u="sng">
                <a:solidFill>
                  <a:srgbClr val="e5e500"/>
                </a:solidFill>
                <a:uFillTx/>
                <a:latin typeface="Tahoma"/>
              </a:rPr>
              <a:t>J-shap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th curve is obtai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Administrator\Local Settings\Temporary Internet Files\Content.Word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e500"/>
                </a:solidFill>
                <a:uFillTx/>
                <a:latin typeface="Tahoma"/>
              </a:rPr>
              <a:t>Comprises  four distinctive phas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e500"/>
                </a:solidFill>
                <a:uFillTx/>
                <a:latin typeface="Tahoma"/>
              </a:rPr>
              <a:t>i) Positive acceleration phas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this phase population growth increases as reproduction gets underwa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starts slowly because initially there is a shortage of reproducing individuals which may be widely dispers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e500"/>
                </a:solidFill>
                <a:uFillTx/>
                <a:latin typeface="Tahoma"/>
              </a:rPr>
              <a:t>ii) Exponential or logarithmic phase.</a:t>
            </a:r>
            <a:r>
              <a:rPr b="0" lang="en-US" sz="3200" spc="-1" strike="noStrike" u="sng">
                <a:solidFill>
                  <a:srgbClr val="e5e5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ximum or numerical growth rate is achieved under the optimal environmental condi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no environmental resistance and the birth rate exceeds the death r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1680" y="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e500"/>
                </a:solidFill>
                <a:uFillTx/>
                <a:latin typeface="Tahoma"/>
              </a:rPr>
              <a:t>(iii) Negative acceleration pha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zed by decelerating population growth as the environmental resistance sets in and there is increasing death rate and/ or decreasing birth r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e500"/>
                </a:solidFill>
                <a:uFillTx/>
                <a:latin typeface="Tahoma"/>
              </a:rPr>
              <a:t>(iv) population consta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tion becomes constant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no further growth as birth rate and death rate exactly balance each other resulting in equilibri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3360" y="1980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00"/>
                </a:solidFill>
                <a:uFillTx/>
                <a:latin typeface="Tahoma"/>
              </a:rPr>
              <a:t>Four division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on the basis of population growth rate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e500"/>
                </a:solidFill>
                <a:uFillTx/>
                <a:latin typeface="Tahoma"/>
              </a:rPr>
              <a:t>Very high growth rate</a:t>
            </a:r>
            <a:r>
              <a:rPr b="0" lang="en-US" sz="3200" spc="-1" strike="noStrike" u="sng">
                <a:solidFill>
                  <a:srgbClr val="e5e500"/>
                </a:solidFill>
                <a:uFillTx/>
                <a:latin typeface="Tahoma"/>
              </a:rPr>
              <a:t> (3 per cent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th rate is found in several countries of Africa and Western Asi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e500"/>
                </a:solidFill>
                <a:uFillTx/>
                <a:latin typeface="Tahoma"/>
              </a:rPr>
              <a:t>High growth rate (2 to 3 per cent).</a:t>
            </a:r>
            <a:r>
              <a:rPr b="0" lang="en-US" sz="3200" spc="-1" strike="noStrike" u="sng">
                <a:solidFill>
                  <a:srgbClr val="e5e5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igh growth rate is met in Africa, Asia and Central A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1680" y="60912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e500"/>
                </a:solidFill>
                <a:uFillTx/>
                <a:latin typeface="Tahoma"/>
              </a:rPr>
              <a:t>Medium growth rate (1 to 2 per cen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e500"/>
                </a:solidFill>
                <a:uFillTx/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ries  have effectively controlled the birth rate to reduce the growth rate of the popul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e500"/>
                </a:solidFill>
                <a:uFillTx/>
                <a:latin typeface="Tahoma"/>
              </a:rPr>
              <a:t>Minimum growth rate (1 per cent or les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found among developed n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e0"/>
                </a:solidFill>
                <a:uFillTx/>
                <a:latin typeface="Tahoma"/>
              </a:rPr>
              <a:t>Population Explos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enormous growth in no:of human be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e500"/>
                </a:solidFill>
                <a:uFillTx/>
                <a:latin typeface="Tahoma"/>
              </a:rPr>
              <a:t>Three imp events of explo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04920" y="13712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rst population explosion -20,000yrs 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e0"/>
                </a:solidFill>
                <a:uFillTx/>
                <a:latin typeface="Tahoma"/>
              </a:rPr>
              <a:t>second  - 6,000 years bac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ird - 300 years bac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209320"/>
            <a:ext cx="92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e0"/>
                </a:solidFill>
                <a:uFillTx/>
                <a:latin typeface="Tahoma"/>
              </a:rPr>
              <a:t>Causes of Population</a:t>
            </a:r>
            <a:br>
              <a:rPr sz="4400"/>
            </a:br>
            <a:r>
              <a:rPr b="1" lang="en-US" sz="4400" spc="-1" strike="noStrike" u="sng">
                <a:solidFill>
                  <a:srgbClr val="ffffe0"/>
                </a:solidFill>
                <a:uFillTx/>
                <a:latin typeface="Tahoma"/>
              </a:rPr>
              <a:t> Explosion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1680" y="45720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ment in public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d living standard and literac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tion in death r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in food production and distributio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e500"/>
                </a:solidFill>
                <a:uFillTx/>
                <a:latin typeface="Tahoma"/>
              </a:rPr>
              <a:t>Impacts of Population Explos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W &amp; G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ore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diversity de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er scar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d l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ss on Natural resour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verty &amp; unemploy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Picture 4" descr="kkswp41e[1]"/>
          <p:cNvPicPr/>
          <p:nvPr/>
        </p:nvPicPr>
        <p:blipFill>
          <a:blip r:embed="rId1"/>
          <a:stretch/>
        </p:blipFill>
        <p:spPr>
          <a:xfrm>
            <a:off x="5943600" y="1295280"/>
            <a:ext cx="3200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5:12:47Z</dcterms:created>
  <dc:creator>Newport News</dc:creator>
  <dc:description/>
  <dc:language>en-US</dc:language>
  <cp:lastModifiedBy>Admin</cp:lastModifiedBy>
  <dcterms:modified xsi:type="dcterms:W3CDTF">2012-07-12T15:58:37Z</dcterms:modified>
  <cp:revision>36</cp:revision>
  <dc:subject/>
  <dc:title>Population Geography</dc:title>
</cp:coreProperties>
</file>