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EC5-3B1A-4510-8D7A-FC87511A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857-D99B-486F-8DCC-400AF482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106A-85B0-47DA-AB9D-FC7327C5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A2E-96D7-44C7-9B59-62EDECC6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3EE-2DD8-49E8-B2A2-3F9C6DD8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FA1-EAC3-4697-99B7-F2FC1846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B50-D967-4199-AE84-C4A6AF87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39F-E78D-433C-85EE-B8B5DE66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6406-0937-4EE1-BA38-87569C48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CDD-BFFE-4B48-A0AF-F3CB7BA4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4BA5-CC93-4320-9CB2-5A9C070E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470-BAFE-4C57-8DC7-0440FA17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70BD-CF15-4E0B-818A-CB3F5A230E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hyperlink" Target="file:///&#1601;&#1607;&#1585;&#1587;%20&#1575;&#1604;&#1578;&#1585;&#1575;&#1606;&#1610;&#1605;.pps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828800" y="260280"/>
            <a:ext cx="12801600" cy="8826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765440" y="-289080"/>
            <a:ext cx="12241440" cy="2349720"/>
          </a:xfrm>
          <a:prstGeom prst="rect">
            <a:avLst/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-4680"/>
            <a:ext cx="885672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000" spc="-1" strike="noStrike">
                <a:solidFill>
                  <a:srgbClr val="ffffff"/>
                </a:solidFill>
                <a:latin typeface="Arial"/>
              </a:rPr>
              <a:t>رحمة ربنا قويت علينا قويت قويت   قويت علينا قويت قويت قويت علينا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24000" y="1557360"/>
            <a:ext cx="9577440" cy="7183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539640" y="-360360"/>
            <a:ext cx="10225080" cy="2349360"/>
          </a:xfrm>
          <a:prstGeom prst="rect">
            <a:avLst/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39680"/>
            <a:ext cx="838836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000" spc="-1" strike="noStrike">
                <a:solidFill>
                  <a:srgbClr val="ffffff"/>
                </a:solidFill>
                <a:latin typeface="Arial"/>
              </a:rPr>
              <a:t>أمـانـة ربـنا للآبـد لـنا للآبـد للآبـد للآبـد لـنا للآبـد للآبـد للآبـد لـن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44360" y="8469360"/>
            <a:ext cx="932472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1280" y="-4428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73080" y="-1152360"/>
            <a:ext cx="9325080" cy="2349360"/>
          </a:xfrm>
          <a:prstGeom prst="rect">
            <a:avLst/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24000" y="5373720"/>
            <a:ext cx="9792000" cy="1557360"/>
          </a:xfrm>
          <a:prstGeom prst="rect">
            <a:avLst/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6080"/>
            <a:ext cx="72738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000" spc="-1" strike="noStrike">
                <a:solidFill>
                  <a:srgbClr val="ffffff"/>
                </a:solidFill>
                <a:latin typeface="Arial"/>
              </a:rPr>
              <a:t>محبة ربنا من سيفصلنا عن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477040"/>
            <a:ext cx="8893080" cy="186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5800" spc="-1" strike="noStrike">
                <a:solidFill>
                  <a:srgbClr val="ffffff"/>
                </a:solidFill>
                <a:latin typeface="Arial"/>
              </a:rPr>
              <a:t>من يفصل من يفصل من يفصلنا عنها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العدد الثا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العدد الثال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3441600"/>
            <a:ext cx="3816360" cy="708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العدد الراب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44370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العدد الخام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   القرار : القرار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92">
            <a:hlinkClick r:id="rId7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Majalla UI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5373720"/>
            <a:ext cx="3816360" cy="708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العدد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العدد الا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9:00:46Z</dcterms:created>
  <dc:creator>www.taranimarabia.org</dc:creator>
  <dc:description/>
  <dc:language>en-US</dc:language>
  <cp:lastModifiedBy>Sp2</cp:lastModifiedBy>
  <dcterms:modified xsi:type="dcterms:W3CDTF">2008-06-07T09:42:38Z</dcterms:modified>
  <cp:revision>17</cp:revision>
  <dc:subject/>
  <dc:title>رحمة ربنا قويت علينا</dc:title>
</cp:coreProperties>
</file>