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6B5-EAE4-4182-989A-B9F0F898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DF5-CD87-4AB5-85C6-8AF12BF1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096-F9A4-4628-8367-84415FA1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90F-CA3E-4592-BE53-FD2615B7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AD2-51A8-49CC-901C-ED89BEEE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B16-6997-422E-B7FB-7FB14B65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1E7-E074-4EFD-8417-0772B997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43B-1BBC-491B-9887-D88D895C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994-82FB-4461-A09A-4B912F0C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BE2-7F4C-475E-A524-4331814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6F3-6AA2-41BE-91E2-6602C59E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2B6-2A80-49D4-8C43-F17C141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6AE33-2C05-4810-93F7-EB9717EF4A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06204-C1BA-48A4-87A4-D770F85A0AC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13:21Z</dcterms:created>
  <dc:creator>최봉수</dc:creator>
  <dc:description/>
  <dc:language>en-US</dc:language>
  <cp:lastModifiedBy>맛있다 군만두</cp:lastModifiedBy>
  <dcterms:modified xsi:type="dcterms:W3CDTF">2024-10-01T03:11:17Z</dcterms:modified>
  <cp:revision>4</cp:revision>
  <dc:subject/>
  <dc:title>슬라이드 1</dc:title>
</cp:coreProperties>
</file>