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219-BB45-42F3-84B4-452DA38A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4AA-D1BC-41E9-847A-8358BEAE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C44-56A3-4E91-B8F1-AA861009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235-DB9E-46B6-995C-7415592F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AA4-F502-4A45-8D9A-3332679B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523-6302-46AA-99DA-FB320769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8F3-64EB-4172-B785-CE0CB08E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076-C1BE-490A-9F14-67DC67B9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3D6-2B93-4CF6-B481-84C76133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0F0-FA21-4E5F-B9A1-1ED9375E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D38-1498-44E1-ADD0-7638C50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230-2AAF-455F-B740-B50DC72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A279B-74B0-49E5-8FFB-B2148E4D9A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3AC21-C1A1-42C9-AB5B-EC9FDF18BEB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13:21Z</dcterms:created>
  <dc:creator>최봉수</dc:creator>
  <dc:description/>
  <dc:language>en-US</dc:language>
  <cp:lastModifiedBy>맛있다 군만두</cp:lastModifiedBy>
  <dcterms:modified xsi:type="dcterms:W3CDTF">2024-10-01T03:11:17Z</dcterms:modified>
  <cp:revision>4</cp:revision>
  <dc:subject/>
  <dc:title>슬라이드 1</dc:title>
</cp:coreProperties>
</file>