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FF18-816F-48CD-B122-072E0FEA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A3CA-6521-4F8C-8657-9A08A421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83CF-40E6-4ABC-ACA8-676D721F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BF54-01CC-4E28-82D4-7B33DB80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FA4A-79AF-4D15-8F6B-82C4783A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C87F-AE6D-4ED2-BB9B-81BC8712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A97-E009-4FDA-8C33-67BF5A4B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0671-6B33-4562-A1F0-92F63A63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BFB5-09A4-44FC-BA99-94728244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1033-ED31-46C9-869C-C0BF6337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A0D4-8362-444D-A6DA-474C2A7C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38FE-F618-4D25-8369-3217A9FD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DCCD-F5FC-442B-8A95-F17F126DC5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image" Target="../media/image9.jpeg"/><Relationship Id="rId4" Type="http://schemas.openxmlformats.org/officeDocument/2006/relationships/slide" Target="slide5.xml"/><Relationship Id="rId5" Type="http://schemas.openxmlformats.org/officeDocument/2006/relationships/image" Target="../media/image9.jpeg"/><Relationship Id="rId6" Type="http://schemas.openxmlformats.org/officeDocument/2006/relationships/slide" Target="slide7.xml"/><Relationship Id="rId7" Type="http://schemas.openxmlformats.org/officeDocument/2006/relationships/image" Target="../media/image9.jpeg"/><Relationship Id="rId8" Type="http://schemas.openxmlformats.org/officeDocument/2006/relationships/slide" Target="slide9.xml"/><Relationship Id="rId9" Type="http://schemas.openxmlformats.org/officeDocument/2006/relationships/image" Target="../media/image9.jpeg"/><Relationship Id="rId10" Type="http://schemas.openxmlformats.org/officeDocument/2006/relationships/slide" Target="slide10.xml"/><Relationship Id="rId11" Type="http://schemas.openxmlformats.org/officeDocument/2006/relationships/image" Target="../media/image10.jpeg"/><Relationship Id="rId12" Type="http://schemas.openxmlformats.org/officeDocument/2006/relationships/hyperlink" Target="file:///../&#1601;&#1607;&#1585;&#1587;%20&#1575;&#1604;&#1578;&#1585;&#1575;&#1606;&#1610;&#1605;.pps" TargetMode="External"/><Relationship Id="rId13" Type="http://schemas.openxmlformats.org/officeDocument/2006/relationships/image" Target="../media/image10.jpeg"/><Relationship Id="rId14" Type="http://schemas.openxmlformats.org/officeDocument/2006/relationships/slide" Target="slide1.xml"/><Relationship Id="rId15" Type="http://schemas.openxmlformats.org/officeDocument/2006/relationships/image" Target="../media/image9.jpeg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33440" y="1066680"/>
            <a:ext cx="6438960" cy="228852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العالم يبني ويزر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0"/>
            <a:ext cx="8686800" cy="119124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تملي مش ش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بعا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57480" y="3382920"/>
            <a:ext cx="6438600" cy="228852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همّه يلبس ويقل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25920"/>
            <a:ext cx="8686800" cy="119124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عن يسوع غفلا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2500" t="3305" r="2500" b="41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" y="3429000"/>
            <a:ext cx="8686800" cy="375084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ا مال ولا جاه و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ا غنى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4648320"/>
            <a:ext cx="8686800" cy="375084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أنا لي وطن تاني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974880"/>
            <a:ext cx="7848720" cy="253188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كن أنا مش من هنا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2300400"/>
            <a:ext cx="7848720" cy="253188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دا هنا عالم ف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الناس بتجر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شايل هم الاي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6" action="ppaction://hlinksldjump"/>
          </p:cNvPr>
          <p:cNvSpPr/>
          <p:nvPr/>
        </p:nvSpPr>
        <p:spPr>
          <a:xfrm>
            <a:off x="5292720" y="3441600"/>
            <a:ext cx="3816360" cy="708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يبكوا على الح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8" action="ppaction://hlinksldjump"/>
          </p:cNvPr>
          <p:cNvSpPr/>
          <p:nvPr/>
        </p:nvSpPr>
        <p:spPr>
          <a:xfrm>
            <a:off x="5292720" y="4437000"/>
            <a:ext cx="3816360" cy="7081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واحد منفو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0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لكن أنا مش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92">
            <a:hlinkClick r:id="rId12"/>
          </p:cNvPr>
          <p:cNvSpPr/>
          <p:nvPr/>
        </p:nvSpPr>
        <p:spPr>
          <a:xfrm>
            <a:off x="900000" y="260280"/>
            <a:ext cx="2452680" cy="11912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14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العالم يبن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2500" t="3305" r="2500" b="41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3489480"/>
            <a:ext cx="8686800" cy="375084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ا مال ولا جاه و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ا غنى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648320"/>
            <a:ext cx="8686800" cy="375084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أنا لي وطن تاني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974880"/>
            <a:ext cx="7848720" cy="253188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كن أنا مش من هنا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300400"/>
            <a:ext cx="7848720" cy="253188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دا هنا عالم ف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73520" y="497520"/>
            <a:ext cx="8555040" cy="6435000"/>
            <a:chOff x="173520" y="497520"/>
            <a:chExt cx="8555040" cy="643500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 rot="20530800">
              <a:off x="3276720" y="2285640"/>
              <a:ext cx="27543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 rot="20530800">
              <a:off x="1752480" y="2514240"/>
              <a:ext cx="27543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 rot="20530800">
              <a:off x="5529240" y="1177560"/>
              <a:ext cx="27543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 rot="19096800">
              <a:off x="5562360" y="2286000"/>
              <a:ext cx="27543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5"/>
            <a:stretch/>
          </p:blipFill>
          <p:spPr>
            <a:xfrm rot="20530800">
              <a:off x="5029200" y="3580920"/>
              <a:ext cx="27543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 rot="1414200">
              <a:off x="3733920" y="4190760"/>
              <a:ext cx="27543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 rot="19050000">
              <a:off x="2597040" y="3498480"/>
              <a:ext cx="2286000" cy="275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8"/>
            <a:stretch/>
          </p:blipFill>
          <p:spPr>
            <a:xfrm rot="1414200">
              <a:off x="990720" y="2895120"/>
              <a:ext cx="27543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9"/>
            <a:stretch/>
          </p:blipFill>
          <p:spPr>
            <a:xfrm rot="19096800">
              <a:off x="2514240" y="1371600"/>
              <a:ext cx="27543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0"/>
            <a:stretch/>
          </p:blipFill>
          <p:spPr>
            <a:xfrm rot="19050000">
              <a:off x="4807080" y="907560"/>
              <a:ext cx="2286000" cy="275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1"/>
            <a:stretch/>
          </p:blipFill>
          <p:spPr>
            <a:xfrm rot="20530800">
              <a:off x="457200" y="1218960"/>
              <a:ext cx="275436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380880" y="914400"/>
            <a:ext cx="8458200" cy="253188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الناس بتجري وتكد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2057400"/>
            <a:ext cx="8763120" cy="253188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را سيد اسمه المـا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184560"/>
            <a:ext cx="8458200" cy="253188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زرع الشر ما ينف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479840"/>
            <a:ext cx="8763120" cy="131292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دا كل شيء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زوا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2500" t="3305" r="2500" b="41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3429000"/>
            <a:ext cx="8686800" cy="375084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ا مال ولا جاه و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ا غنى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648320"/>
            <a:ext cx="8686800" cy="375084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أنا لي وطن تاني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974880"/>
            <a:ext cx="7848720" cy="253188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كن أنا مش من هنا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300400"/>
            <a:ext cx="7848720" cy="253188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دا هنا عالم ف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880" y="1096920"/>
            <a:ext cx="8534520" cy="228852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شايل هم الأيام               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2209680"/>
            <a:ext cx="7238880" cy="228852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محروم من السلا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3382920"/>
            <a:ext cx="8534520" cy="22885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دي شكوى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كتر كلا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4525920"/>
            <a:ext cx="7238880" cy="22885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من الضيق والآلا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2500" t="3305" r="2500" b="41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8600" y="3429000"/>
            <a:ext cx="8686800" cy="375084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ا مال ولا جاه و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ا غنى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4648320"/>
            <a:ext cx="8686800" cy="375084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أنا لي وطن تاني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974880"/>
            <a:ext cx="7848720" cy="253188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كن أنا مش من هنا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300400"/>
            <a:ext cx="7848720" cy="253188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دا هنا عالم ف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1325520"/>
            <a:ext cx="8534520" cy="338580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بكوا على الحظ الخاين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     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2438280"/>
            <a:ext cx="7238880" cy="228852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مش جاى على هواه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611520"/>
            <a:ext cx="8534520" cy="22885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ايزين فى الدنيا جنا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4754520"/>
            <a:ext cx="7391520" cy="22885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 العمر يستناه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500" t="3305" r="2500" b="41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3429000"/>
            <a:ext cx="8686800" cy="375084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ا مال ولا جاه و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ا غنى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4648320"/>
            <a:ext cx="8686800" cy="375084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أنا لي وطن تاني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974880"/>
            <a:ext cx="7848720" cy="253188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كن أنا مش من هنا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300400"/>
            <a:ext cx="7848720" cy="253188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دا هنا عالم ف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1325520"/>
            <a:ext cx="8534520" cy="338580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احد منفوخ ع التانى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     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438280"/>
            <a:ext cx="7238880" cy="228852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زي الحصان الجام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611520"/>
            <a:ext cx="8534520" cy="22885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عمل للكلمة معان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754520"/>
            <a:ext cx="7391520" cy="22885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 لا يعرف مرة يسام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4:17:18Z</dcterms:created>
  <dc:creator/>
  <dc:description/>
  <dc:language>en-US</dc:language>
  <cp:lastModifiedBy>Sp2</cp:lastModifiedBy>
  <dcterms:modified xsi:type="dcterms:W3CDTF">2008-09-01T22:42:20Z</dcterms:modified>
  <cp:revision>30</cp:revision>
  <dc:subject/>
  <dc:title>PowerPoint Presentation</dc:title>
</cp:coreProperties>
</file>