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D2A-E7A7-45B7-ABFE-66CDB0C1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1A4-9400-4E13-BF7D-0646FBA3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944-F22F-4170-A61F-F42B5F15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F4E-1F48-44EF-A1DC-31369516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9F9-C972-4466-9CDA-7B5B374D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DDF-16EF-4076-BDAF-EDF0FAB8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EF1-5249-479F-A7B2-3CF57892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087-9F5B-4BA9-8D43-711AC6D5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7B1-D677-4018-A196-E6C23D90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FA4-6A5A-426D-970C-31DD8BF0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939-7EDC-4A8D-BD0F-097267B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DCB-5EB0-4C3C-BCE4-8BAF45B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E73C-0696-4B4B-B721-8344D8D58C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image" Target="../media/image9.jpeg"/><Relationship Id="rId4" Type="http://schemas.openxmlformats.org/officeDocument/2006/relationships/slide" Target="slide5.xml"/><Relationship Id="rId5" Type="http://schemas.openxmlformats.org/officeDocument/2006/relationships/image" Target="../media/image9.jpeg"/><Relationship Id="rId6" Type="http://schemas.openxmlformats.org/officeDocument/2006/relationships/slide" Target="slide7.xml"/><Relationship Id="rId7" Type="http://schemas.openxmlformats.org/officeDocument/2006/relationships/image" Target="../media/image9.jpeg"/><Relationship Id="rId8" Type="http://schemas.openxmlformats.org/officeDocument/2006/relationships/slide" Target="slide9.xml"/><Relationship Id="rId9" Type="http://schemas.openxmlformats.org/officeDocument/2006/relationships/image" Target="../media/image9.jpeg"/><Relationship Id="rId10" Type="http://schemas.openxmlformats.org/officeDocument/2006/relationships/slide" Target="slide10.xml"/><Relationship Id="rId11" Type="http://schemas.openxmlformats.org/officeDocument/2006/relationships/image" Target="../media/image10.jpeg"/><Relationship Id="rId12" Type="http://schemas.openxmlformats.org/officeDocument/2006/relationships/hyperlink" Target="file:///../&#1601;&#1607;&#1585;&#1587;%20&#1575;&#1604;&#1578;&#1585;&#1575;&#1606;&#1610;&#1605;.pps" TargetMode="External"/><Relationship Id="rId13" Type="http://schemas.openxmlformats.org/officeDocument/2006/relationships/image" Target="../media/image10.jpeg"/><Relationship Id="rId14" Type="http://schemas.openxmlformats.org/officeDocument/2006/relationships/slide" Target="slide1.xml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3440" y="1066680"/>
            <a:ext cx="6438960" cy="228852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لعالم يبني ويزر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تملي مش ش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بع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7480" y="3382920"/>
            <a:ext cx="6438600" cy="228852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همّه يلبس ويقل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2592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عن يسوع غفل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2500" t="3305" r="2500" b="41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342900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مال ولا جاه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غنى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64832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ا لي وطن تاني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97488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كن أنا مش من هنا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30040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هنا عالم ف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الناس بتجر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شايل هم الاي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يبكوا على الح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8" action="ppaction://hlinksldjump"/>
          </p:cNvPr>
          <p:cNvSpPr/>
          <p:nvPr/>
        </p:nvSpPr>
        <p:spPr>
          <a:xfrm>
            <a:off x="5292720" y="4437000"/>
            <a:ext cx="3816360" cy="708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واحد منفو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0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لكن أنا مش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92">
            <a:hlinkClick r:id="rId12"/>
          </p:cNvPr>
          <p:cNvSpPr/>
          <p:nvPr/>
        </p:nvSpPr>
        <p:spPr>
          <a:xfrm>
            <a:off x="900000" y="260280"/>
            <a:ext cx="2452680" cy="11912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4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العالم يبن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500" t="3305" r="2500" b="41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48948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مال ولا جاه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غنى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64832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ا لي وطن تاني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97488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كن أنا مش من هنا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0040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هنا عالم ف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3520" y="497520"/>
            <a:ext cx="8555040" cy="6435000"/>
            <a:chOff x="173520" y="497520"/>
            <a:chExt cx="8555040" cy="64350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 rot="20530800">
              <a:off x="3276720" y="228564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 rot="20530800">
              <a:off x="1752480" y="251424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 rot="20530800">
              <a:off x="5529240" y="117756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 rot="19096800">
              <a:off x="5562360" y="228600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 rot="20530800">
              <a:off x="5029200" y="358092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 rot="1414200">
              <a:off x="3733920" y="419076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 rot="19050000">
              <a:off x="2597040" y="3498480"/>
              <a:ext cx="2286000" cy="27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 rot="1414200">
              <a:off x="990720" y="289512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9"/>
            <a:stretch/>
          </p:blipFill>
          <p:spPr>
            <a:xfrm rot="19096800">
              <a:off x="2514240" y="137160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0"/>
            <a:stretch/>
          </p:blipFill>
          <p:spPr>
            <a:xfrm rot="19050000">
              <a:off x="4807080" y="907560"/>
              <a:ext cx="2286000" cy="27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1"/>
            <a:stretch/>
          </p:blipFill>
          <p:spPr>
            <a:xfrm rot="20530800">
              <a:off x="457200" y="1218960"/>
              <a:ext cx="275436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380880" y="914400"/>
            <a:ext cx="845820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لناس بتجري وتكد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057400"/>
            <a:ext cx="87631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را سيد اسمه المـا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184560"/>
            <a:ext cx="845820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زرع الشر ما ينف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479840"/>
            <a:ext cx="8763120" cy="131292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كل شيء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زوا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2500" t="3305" r="2500" b="41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42900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مال ولا جاه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غنى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64832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ا لي وطن تاني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97488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كن أنا مش من هنا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30040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هنا عالم ف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1096920"/>
            <a:ext cx="8534520" cy="228852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شايل هم الأيام          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209680"/>
            <a:ext cx="7238880" cy="228852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حروم من الس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382920"/>
            <a:ext cx="853452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ي شكوى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تر ك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525920"/>
            <a:ext cx="723888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ن الضيق والآ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2500" t="3305" r="2500" b="41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342900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مال ولا جاه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غنى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64832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ا لي وطن تاني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97488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كن أنا مش من هنا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30040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هنا عالم ف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1325520"/>
            <a:ext cx="8534520" cy="338580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بكوا على الحظ الخاين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438280"/>
            <a:ext cx="7238880" cy="228852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ش جاى على هواه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11520"/>
            <a:ext cx="853452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ايزين فى الدنيا جنا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754520"/>
            <a:ext cx="739152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 العمر يستناه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500" t="3305" r="2500" b="41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342900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مال ولا جاه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غنى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64832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ا لي وطن تاني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97488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كن أنا مش من هنا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30040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هنا عالم ف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325520"/>
            <a:ext cx="8534520" cy="338580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احد منفوخ ع التانى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438280"/>
            <a:ext cx="7238880" cy="228852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زي الحصان الجام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611520"/>
            <a:ext cx="853452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عمل للكلمة معا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754520"/>
            <a:ext cx="739152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 لا يعرف مرة يسام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4:17:18Z</dcterms:created>
  <dc:creator/>
  <dc:description/>
  <dc:language>en-US</dc:language>
  <cp:lastModifiedBy>Sp2</cp:lastModifiedBy>
  <dcterms:modified xsi:type="dcterms:W3CDTF">2008-09-01T22:42:20Z</dcterms:modified>
  <cp:revision>30</cp:revision>
  <dc:subject/>
  <dc:title>PowerPoint Presentation</dc:title>
</cp:coreProperties>
</file>