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B1E0-B924-481F-A17B-C0CC5B2A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D313-B158-4177-A6FF-D4C922FB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EB1-EB30-4247-97B4-BDBF2575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0A35-AAE6-4A57-9B76-E555E45E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B0F2-CAC4-4E4E-9147-118681A2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521-8A78-4019-AB0B-E3823316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269-CA5C-4BEA-A43A-0C812EA4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C5D7-6A3D-4F7D-BD58-3713C99D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8213-828F-4A03-A3B6-41552316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D26D-5DDD-4DD0-BB7F-2604D9BE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ED0F-615E-43EE-A45D-0F611CFE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894-7C26-4932-87C7-A8A4D62A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B3446-8099-4F5D-893E-B6BCBFE3C19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C4C3D-5B8D-46E7-9BD0-02E9505702E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8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1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2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3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4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5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6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7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6:51:22Z</dcterms:created>
  <dc:creator>최봉수</dc:creator>
  <dc:description/>
  <dc:language>en-US</dc:language>
  <cp:lastModifiedBy>군만두 맛있다</cp:lastModifiedBy>
  <dcterms:modified xsi:type="dcterms:W3CDTF">2023-07-12T03:51:21Z</dcterms:modified>
  <cp:revision>2</cp:revision>
  <dc:subject/>
  <dc:title>슬라이드 1</dc:title>
</cp:coreProperties>
</file>