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F5D-A28A-49D1-8115-A44885D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CE7-1397-4A8D-AEED-C1AFB9C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92E-61BA-4ED1-BDB4-67557BDF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9E2-5422-4CFF-B394-9305C07B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7EC-3C69-4B98-9C5B-FCACCE92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D40-A2BB-4B53-88A6-7FC057D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038-1A45-48F7-8188-FEAF885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9C4-E829-47E6-B488-C4D2971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7BB-560B-4F84-B53E-660C49F3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4E2-FCAB-4261-BE67-3B017E3E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723-A2E6-4D71-BA5A-232FD31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C4C-684F-4CFF-BF25-8A5A6D5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DAF39-5CCB-455D-9595-36035D1163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07C70-FB09-444B-880A-32CE20658A2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51:22Z</dcterms:created>
  <dc:creator>최봉수</dc:creator>
  <dc:description/>
  <dc:language>en-US</dc:language>
  <cp:lastModifiedBy>군만두 맛있다</cp:lastModifiedBy>
  <dcterms:modified xsi:type="dcterms:W3CDTF">2023-07-12T03:51:21Z</dcterms:modified>
  <cp:revision>2</cp:revision>
  <dc:subject/>
  <dc:title>슬라이드 1</dc:title>
</cp:coreProperties>
</file>