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B5E-BCEC-46F5-AD93-1C9D1CE8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1C5-F5C8-4EA0-9D16-734A6236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544-A32F-4A9D-921B-EFE07A16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2D5-E5CB-4DEC-81F3-861A1FDA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B7F-0B9C-49E0-8E0E-8F650446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E90-5D26-49EF-98A3-7D3B3A80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10B-B094-4FE2-9176-D4552FC1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312-0CA1-4B6F-B38A-7A14D233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A73-91C7-4286-A3C1-9425CA2D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47D-44DF-415A-A995-F7BE7026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02E-AAC1-4F44-9FCE-6170DC13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630-DDE7-41A1-8A9F-77BED1FC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5DAFB-D779-4C10-94C3-309B61CD42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5474E-40E4-4938-9E10-D5318ACF9D3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6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4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5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6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8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9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1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2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4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5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02:26:30Z</dcterms:created>
  <dc:creator>최봉수</dc:creator>
  <dc:description/>
  <dc:language>en-US</dc:language>
  <cp:lastModifiedBy>맛있다 군만두</cp:lastModifiedBy>
  <dcterms:modified xsi:type="dcterms:W3CDTF">2024-09-24T07:59:43Z</dcterms:modified>
  <cp:revision>4</cp:revision>
  <dc:subject/>
  <dc:title>슬라이드 1</dc:title>
</cp:coreProperties>
</file>