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C6F02-BA6D-4810-95C6-231D9DDB1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8ABBE-DFBD-4A2E-85B9-A813B252B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68280-9F90-4822-B75C-A967B6A7D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96BB6-403B-4248-B423-9AE2F4C24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802EF-CFF5-4E6B-9DF3-30297651E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6DF4D-742C-4297-96DF-B139839BC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96B33-C202-4D35-918C-5D0D057E8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F6C3E-C0B3-4DA2-9AA8-1957376A9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F2271-5943-47D3-A7B1-B4E3C19CB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C0A6A-C232-4D1D-AFF5-D8F4731C5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17D64-A320-4DE2-B3F1-3B1E8B5AA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3D6D0-A685-4EED-B3F5-52C73C49C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28F44F7-51BD-4422-AAE8-78965513F470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-184680" y="6359400"/>
            <a:ext cx="165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F77636B-26B6-4229-8618-4878F259D408}" type="slidenum"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&lt;number&gt;</a:t>
            </a:fld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/16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" Target="slide9.xml"/><Relationship Id="rId4" Type="http://schemas.openxmlformats.org/officeDocument/2006/relationships/image" Target="../media/image3.png"/><Relationship Id="rId5" Type="http://schemas.openxmlformats.org/officeDocument/2006/relationships/slide" Target="slide12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13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5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" Target="slide9.xml"/><Relationship Id="rId4" Type="http://schemas.openxmlformats.org/officeDocument/2006/relationships/image" Target="../media/image3.png"/><Relationship Id="rId5" Type="http://schemas.openxmlformats.org/officeDocument/2006/relationships/slide" Target="slide12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13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5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" Target="slide9.xml"/><Relationship Id="rId4" Type="http://schemas.openxmlformats.org/officeDocument/2006/relationships/image" Target="../media/image3.png"/><Relationship Id="rId5" Type="http://schemas.openxmlformats.org/officeDocument/2006/relationships/slide" Target="slide12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13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5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" Target="slide9.xml"/><Relationship Id="rId4" Type="http://schemas.openxmlformats.org/officeDocument/2006/relationships/image" Target="../media/image3.png"/><Relationship Id="rId5" Type="http://schemas.openxmlformats.org/officeDocument/2006/relationships/slide" Target="slide12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13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5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slide" Target="slide9.xml"/><Relationship Id="rId4" Type="http://schemas.openxmlformats.org/officeDocument/2006/relationships/image" Target="../media/image3.png"/><Relationship Id="rId5" Type="http://schemas.openxmlformats.org/officeDocument/2006/relationships/slide" Target="slide12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13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5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" Target="slide9.xml"/><Relationship Id="rId4" Type="http://schemas.openxmlformats.org/officeDocument/2006/relationships/image" Target="../media/image3.png"/><Relationship Id="rId5" Type="http://schemas.openxmlformats.org/officeDocument/2006/relationships/slide" Target="slide12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13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5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" Target="slide3.xml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" Target="slide1.xml"/><Relationship Id="rId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" Target="slide9.xml"/><Relationship Id="rId4" Type="http://schemas.openxmlformats.org/officeDocument/2006/relationships/image" Target="../media/image3.png"/><Relationship Id="rId5" Type="http://schemas.openxmlformats.org/officeDocument/2006/relationships/slide" Target="slide12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13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5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" Target="slide9.xml"/><Relationship Id="rId4" Type="http://schemas.openxmlformats.org/officeDocument/2006/relationships/image" Target="../media/image3.png"/><Relationship Id="rId5" Type="http://schemas.openxmlformats.org/officeDocument/2006/relationships/slide" Target="slide12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13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5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" Target="slide9.xml"/><Relationship Id="rId4" Type="http://schemas.openxmlformats.org/officeDocument/2006/relationships/image" Target="../media/image3.png"/><Relationship Id="rId5" Type="http://schemas.openxmlformats.org/officeDocument/2006/relationships/slide" Target="slide12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13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5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" Target="slide9.xml"/><Relationship Id="rId4" Type="http://schemas.openxmlformats.org/officeDocument/2006/relationships/image" Target="../media/image3.png"/><Relationship Id="rId5" Type="http://schemas.openxmlformats.org/officeDocument/2006/relationships/slide" Target="slide12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13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5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" Target="slide9.xml"/><Relationship Id="rId4" Type="http://schemas.openxmlformats.org/officeDocument/2006/relationships/image" Target="../media/image3.png"/><Relationship Id="rId5" Type="http://schemas.openxmlformats.org/officeDocument/2006/relationships/slide" Target="slide12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13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5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" Target="slide9.xml"/><Relationship Id="rId4" Type="http://schemas.openxmlformats.org/officeDocument/2006/relationships/image" Target="../media/image3.png"/><Relationship Id="rId5" Type="http://schemas.openxmlformats.org/officeDocument/2006/relationships/slide" Target="slide12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13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5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" Target="slide9.xml"/><Relationship Id="rId4" Type="http://schemas.openxmlformats.org/officeDocument/2006/relationships/image" Target="../media/image3.png"/><Relationship Id="rId5" Type="http://schemas.openxmlformats.org/officeDocument/2006/relationships/slide" Target="slide12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13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5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" Target="slide9.xml"/><Relationship Id="rId4" Type="http://schemas.openxmlformats.org/officeDocument/2006/relationships/image" Target="../media/image3.png"/><Relationship Id="rId5" Type="http://schemas.openxmlformats.org/officeDocument/2006/relationships/slide" Target="slide12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13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5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44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47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9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50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2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53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60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61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3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64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6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67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9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70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2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73" name="Group 3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74" name="Picture 4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Text Box 5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6" name="Group 6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77" name="Picture 7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Text Box 8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9" name="Group 9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80" name="Picture 10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Text Box 11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2" name="Group 12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83" name="Picture 13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Text Box 14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15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86" name="Group 3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87" name="Picture 4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Text Box 5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9" name="Group 6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90" name="Picture 7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" name="Text Box 8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2" name="Group 9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93" name="Picture 10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" name="Text Box 11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5" name="Group 12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96" name="Picture 13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Text Box 14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99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200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2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203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5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206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8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209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12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213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5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216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8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219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0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21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222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2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25" name="Group 3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226" name="Picture 4" descr=""/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Text Box 5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28" name="Group 6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229" name="Picture 7" descr=""/>
            <p:cNvPicPr/>
            <p:nvPr/>
          </p:nvPicPr>
          <p:blipFill>
            <a:blip r:embed="rId4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Text Box 8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1" name="Group 9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232" name="Picture 10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Text Box 11"/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4" name="Group 12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235" name="Picture 13" descr=""/>
            <p:cNvPicPr/>
            <p:nvPr/>
          </p:nvPicPr>
          <p:blipFill>
            <a:blip r:embed="rId7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Text Box 14">
              <a:hlinkClick r:id="rId8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16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38" name="Group 4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239" name="Picture 5" descr=""/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0" name="Text Box 6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41" name="Group 7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242" name="Picture 8" descr=""/>
            <p:cNvPicPr/>
            <p:nvPr/>
          </p:nvPicPr>
          <p:blipFill>
            <a:blip r:embed="rId4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Text Box 9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44" name="Group 10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245" name="Picture 11" descr=""/>
            <p:cNvPicPr/>
            <p:nvPr/>
          </p:nvPicPr>
          <p:blipFill>
            <a:blip r:embed="rId5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 Box 12"/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47" name="Group 13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248" name="Picture 14" descr=""/>
            <p:cNvPicPr/>
            <p:nvPr/>
          </p:nvPicPr>
          <p:blipFill>
            <a:blip r:embed="rId6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" name="Text Box 15"/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6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57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60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2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63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5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66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9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70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2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73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5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76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8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79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17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2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83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5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86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8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89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1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92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95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96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8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99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1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02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4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05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8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09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1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12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4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15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7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18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21" name="Group 3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22" name="Picture 4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Text Box 5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4" name="Group 6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25" name="Picture 7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Text Box 8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7" name="Group 9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28" name="Picture 10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Text Box 11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0" name="Group 12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31" name="Picture 13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Text Box 14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15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34" name="Group 3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35" name="Picture 4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Text Box 5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7" name="Group 6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38" name="Picture 7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Text Box 8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0" name="Group 9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41" name="Picture 10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Text Box 11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3" name="Group 12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44" name="Picture 13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Text Box 14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47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48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0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51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3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54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6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57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5T02:26:30Z</dcterms:created>
  <dc:creator>최봉수</dc:creator>
  <dc:description/>
  <dc:language>en-US</dc:language>
  <cp:lastModifiedBy>맛있다 군만두</cp:lastModifiedBy>
  <dcterms:modified xsi:type="dcterms:W3CDTF">2024-09-24T07:59:43Z</dcterms:modified>
  <cp:revision>4</cp:revision>
  <dc:subject/>
  <dc:title>슬라이드 1</dc:title>
</cp:coreProperties>
</file>