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C507-D473-47E9-A7D6-AD9AEBDF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406-0E8C-4D53-84B7-BB37D23E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60B-15EF-4EA9-A926-2767C0A1F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40BB-5909-46A0-AB8B-153C71F6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C02-A5B8-4B58-8604-AF11DDF9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6F52-10E6-4F40-86DF-D92AB9AC1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F55A-5FCF-4858-B76E-28A4D2C2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1CF-C4C0-4E42-817E-4FC86890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8AC-2429-4D94-8F54-0D7C402A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462-9D06-4DB8-90C9-05C819CC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6DF9-E294-4850-BE3F-21110C64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812-7542-4F55-A3D6-970E72EE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9B90E3-B901-4488-8C05-8ACBDF3DF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26AC42-2518-4F83-98D3-E7069A371567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image" Target="../media/image2.png"/><Relationship Id="rId7" Type="http://schemas.openxmlformats.org/officeDocument/2006/relationships/slide" Target="slide3.xml"/><Relationship Id="rId8" Type="http://schemas.openxmlformats.org/officeDocument/2006/relationships/image" Target="../media/image2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8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9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5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4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5T17:30:38Z</dcterms:created>
  <dc:creator>최봉수</dc:creator>
  <dc:description/>
  <dc:language>en-US</dc:language>
  <cp:lastModifiedBy>Lee Hyun-Wu</cp:lastModifiedBy>
  <dcterms:modified xsi:type="dcterms:W3CDTF">2023-07-04T20:19:13Z</dcterms:modified>
  <cp:revision>3</cp:revision>
  <dc:subject/>
  <dc:title>슬라이드 1</dc:title>
</cp:coreProperties>
</file>