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F2D-1687-42C4-BAC3-36F5FEE7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82C-ECAA-46B4-A6C1-BE505C71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7AE-7975-49A1-B99C-B5E7AB83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F2B-CFEF-4085-8436-ED2791B4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9B8-4592-4F97-9645-A0463276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FC6-BC42-45F8-8DBC-8956C33C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BBF-4B83-431C-9634-BF1C22C3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DB7-F822-42C6-B0F4-FCF12404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555-980C-4E0B-A9CB-6C69290E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B39-10F3-424E-95E0-BC1C453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74D-ACD0-4330-8273-06B79B6A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09F-BD9B-4155-B920-6ADF65D4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B54E9-FC96-4B4F-BD8E-5806A8B7C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AF5B4-CDF4-40B7-A76E-0270EF0BFDA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7:30:38Z</dcterms:created>
  <dc:creator>최봉수</dc:creator>
  <dc:description/>
  <dc:language>en-US</dc:language>
  <cp:lastModifiedBy>Lee Hyun-Wu</cp:lastModifiedBy>
  <dcterms:modified xsi:type="dcterms:W3CDTF">2023-07-04T20:19:13Z</dcterms:modified>
  <cp:revision>3</cp:revision>
  <dc:subject/>
  <dc:title>슬라이드 1</dc:title>
</cp:coreProperties>
</file>