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KennyGLovingYou%20318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09E-95B0-4413-BA2F-3A605940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88C-D745-49BE-B395-0051B37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0CF-B4B6-4D2F-A2C6-1EC85EB5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EF1-ECB8-465E-80B0-8CE0A71F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DEC-FA34-4A55-9FEE-08BCD383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861-276D-4161-AFA1-6A45EBB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EC2-1012-412C-BED2-B8F1ED3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464-9DC0-49DC-929E-FA42B31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2E9-4D9B-413A-92B0-39B867B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4AE-7B10-4433-B8A9-A07F0D3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6AF-4F94-40FF-89CB-60C242C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0D2-73D3-4F89-8EE7-AAFDF3B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67BA-B7CE-498D-8D5C-F6BE3B184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ennyGLovingYou%2031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534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3581280"/>
            <a:ext cx="349560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zomaar 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een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herfst groet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p:transition spd="slow" advTm="8000">
    <p:dissolve/>
    <p:sndAc>
      <p:stSnd>
        <p:snd r:embed="rId2" name="KennyGLovingYou%2031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728" t="0" r="0" b="0"/>
          <a:stretch/>
        </p:blipFill>
        <p:spPr>
          <a:xfrm>
            <a:off x="-98280" y="0"/>
            <a:ext cx="9242280" cy="687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81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17748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2534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5084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GROETJ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513" t="0" r="4724" b="0"/>
          <a:stretch/>
        </p:blipFill>
        <p:spPr>
          <a:xfrm>
            <a:off x="0" y="0"/>
            <a:ext cx="926136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195" t="0" r="6237" b="0"/>
          <a:stretch/>
        </p:blipFill>
        <p:spPr>
          <a:xfrm>
            <a:off x="-66600" y="0"/>
            <a:ext cx="9210600" cy="6899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875" t="0" r="3935" b="0"/>
          <a:stretch/>
        </p:blipFill>
        <p:spPr>
          <a:xfrm>
            <a:off x="-9360" y="0"/>
            <a:ext cx="915336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141" t="10048" r="17219" b="10048"/>
          <a:stretch/>
        </p:blipFill>
        <p:spPr>
          <a:xfrm>
            <a:off x="0" y="0"/>
            <a:ext cx="9199440" cy="6907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970" t="2912" r="1181" b="6796"/>
          <a:stretch/>
        </p:blipFill>
        <p:spPr>
          <a:xfrm>
            <a:off x="0" y="0"/>
            <a:ext cx="9137520" cy="691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2:11:21Z</dcterms:created>
  <dc:creator> Anja</dc:creator>
  <dc:description/>
  <dc:language>en-US</dc:language>
  <cp:lastModifiedBy>Smets</cp:lastModifiedBy>
  <dcterms:modified xsi:type="dcterms:W3CDTF">2008-10-12T03:36:58Z</dcterms:modified>
  <cp:revision>6</cp:revision>
  <dc:subject/>
  <dc:title>PowerPoint-presentatie</dc:title>
</cp:coreProperties>
</file>