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KennyGLovingYou%20318.wav" ContentType="audio/x-wav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0.gif" ContentType="image/gif"/>
  <Override PartName="/ppt/media/image13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1A86-D4AE-44E5-903A-26D323618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D0E7-AF0C-4C8C-8FA0-2C340CDF2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50B0-3453-4021-B1D5-8C0D7EB1E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713C-2F78-47B4-A77B-7D2806F70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0CB5-C5E1-4B87-B430-19191293A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36FF-4220-4E79-AE96-F3EE967CF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3E23-2BE8-4ECF-83AB-DD8ADE817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6F32-B6C9-482F-AFF1-E9F1F49FF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1784-754A-401E-B9A1-FAC3FF553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5C44-4087-46F1-ABBF-1EF50211F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7FDC-56B8-480F-B592-CE08F0641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8415-8369-4E4F-BFDA-4EEC5DEFE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C51C1-2A4F-4D2C-9108-100ED12EF5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KennyGLovingYou%20318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gif"/><Relationship Id="rId3" Type="http://schemas.openxmlformats.org/officeDocument/2006/relationships/image" Target="../media/image20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0" t="0" r="0" b="2534"/>
          <a:stretch/>
        </p:blipFill>
        <p:spPr>
          <a:xfrm>
            <a:off x="0" y="-69840"/>
            <a:ext cx="9144000" cy="69278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533520" y="3581280"/>
            <a:ext cx="3495600" cy="234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Georgia"/>
              </a:rPr>
              <a:t>zomaar </a:t>
            </a:r>
            <a:endParaRPr b="1" i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Georgia"/>
              </a:rPr>
              <a:t>een</a:t>
            </a:r>
            <a:endParaRPr b="1" i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Georgia"/>
              </a:rPr>
              <a:t>herfst groet</a:t>
            </a:r>
            <a:endParaRPr b="1" i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Georgia"/>
              <a:ea typeface="Georgia"/>
            </a:endParaRPr>
          </a:p>
        </p:txBody>
      </p:sp>
    </p:spTree>
  </p:cSld>
  <p:transition spd="slow" advTm="8000">
    <p:dissolve/>
    <p:sndAc>
      <p:stSnd>
        <p:snd r:embed="rId2" name="KennyGLovingYou%20318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7728" t="0" r="0" b="0"/>
          <a:stretch/>
        </p:blipFill>
        <p:spPr>
          <a:xfrm>
            <a:off x="-98280" y="0"/>
            <a:ext cx="9242280" cy="687852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75840" cy="688176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02680" cy="690228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-33480" y="-25560"/>
            <a:ext cx="9177480" cy="688356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02680" cy="690228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-33480" y="0"/>
            <a:ext cx="9177480" cy="688356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77480" cy="688356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-33480" y="-25560"/>
            <a:ext cx="9177480" cy="688356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-33480" y="-25560"/>
            <a:ext cx="9177480" cy="688356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-33480" y="-25560"/>
            <a:ext cx="9177480" cy="688356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91520" cy="689436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rcRect l="0" t="0" r="0" b="2534"/>
          <a:stretch/>
        </p:blipFill>
        <p:spPr>
          <a:xfrm>
            <a:off x="0" y="0"/>
            <a:ext cx="9144000" cy="69278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84360" y="5084640"/>
            <a:ext cx="26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GROETJ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1905120" y="6172200"/>
            <a:ext cx="5387760" cy="4287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latin typeface="Mangal"/>
              </a:rPr>
              <a:t>more at   www.free-powerpoints.goedbegin.be</a:t>
            </a:r>
            <a:endParaRPr b="0" lang="en-US" sz="2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latin typeface="Mangal"/>
              <a:ea typeface="Mangal"/>
            </a:endParaRPr>
          </a:p>
        </p:txBody>
      </p:sp>
    </p:spTree>
  </p:cSld>
  <p:transition spd="slow">
    <p:dissolv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" dur="500" fill="hold"/>
                                        <p:tgtEl>
                                          <p:spTgt spid="6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5513" t="0" r="4724" b="0"/>
          <a:stretch/>
        </p:blipFill>
        <p:spPr>
          <a:xfrm>
            <a:off x="0" y="0"/>
            <a:ext cx="9261360" cy="68738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5195" t="0" r="6237" b="0"/>
          <a:stretch/>
        </p:blipFill>
        <p:spPr>
          <a:xfrm>
            <a:off x="-66600" y="0"/>
            <a:ext cx="9210600" cy="68994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91520" cy="689436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7875" t="0" r="3935" b="0"/>
          <a:stretch/>
        </p:blipFill>
        <p:spPr>
          <a:xfrm>
            <a:off x="-9360" y="0"/>
            <a:ext cx="9153360" cy="690228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02680" cy="690228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7141" t="10048" r="17219" b="10048"/>
          <a:stretch/>
        </p:blipFill>
        <p:spPr>
          <a:xfrm>
            <a:off x="0" y="0"/>
            <a:ext cx="9199440" cy="690732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1970" t="2912" r="1181" b="6796"/>
          <a:stretch/>
        </p:blipFill>
        <p:spPr>
          <a:xfrm>
            <a:off x="0" y="0"/>
            <a:ext cx="9137520" cy="6912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2T12:11:21Z</dcterms:created>
  <dc:creator> Anja</dc:creator>
  <dc:description/>
  <dc:language>en-US</dc:language>
  <cp:lastModifiedBy>Smets</cp:lastModifiedBy>
  <dcterms:modified xsi:type="dcterms:W3CDTF">2008-10-12T03:36:58Z</dcterms:modified>
  <cp:revision>6</cp:revision>
  <dc:subject/>
  <dc:title>PowerPoint-presentatie</dc:title>
</cp:coreProperties>
</file>