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B18-6073-46E0-A06F-FD18F72B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D1D-6B20-4DE1-ACA4-FF0FC2F5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712-D4F2-45F8-8865-982D9B37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702-7BAC-4B70-9CA3-16E8BDA8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AA6-739F-4943-BA24-CCDAC472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60F-A4F0-4AD3-9BBC-A631E18D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28D-0AE9-4F64-8D0B-1FB4EE1D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9FD-2ACA-4BB4-90CD-E5D3823A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8FA-285D-4028-A34A-293985FC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26D-6B2D-4947-8B7E-D8C9C2BC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ACB-E903-4B22-8314-4960B833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A8E-3741-4A08-BD15-93B4CEE1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6399-2F56-425A-8622-A3CA46964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000000"/>
                </a:solidFill>
                <a:latin typeface="Arial"/>
              </a:rPr>
              <a:t>الاستاذ الدكتور عبد الناصر عمرين</a:t>
            </a:r>
            <a:br>
              <a:rPr sz="4400"/>
            </a:b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 قسم تأثيرالأدوية والسمو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جامعة دمشق – كلية الصيدلة – قسم علم تأثير الأدوية والسم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وقاية من حوادث الانصمام الخثر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mboemb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مثل الحادث الوعائي المخ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ovascular accident “C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احتشاء عضلة القل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ocordial infarction “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 بسبب فعله كمثبط لتكدس الصفيحات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elet aggregate inhib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ضاد استطبا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indicated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عند الأطفال المصابين بالعداوى الفيروس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al infection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 المعد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زيد زمن النز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eding tim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sensitivit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سمم بالساليسيلات (تتضمن الأعراض الهياج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t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لاختلاج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ulsion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الدوخ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zzine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النعا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wsines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الحم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الهلاوس ,الغثيان , ضائقة تنفس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distres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طن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nitu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قياء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66672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* حمض الساليسيليك 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Salicylic acid</a:t>
            </a: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موضعي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عَدّ ”حب الشبا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n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إزالة الثآلي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t remova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صد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orias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 الجلد الزهمي/الدهن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orrheic dermat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هِبْر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قشرة الرأس 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druff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هيج الجل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irrit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آكل الجل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eros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سمم بالساليسيل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Methyl-salicylate (Ben-Gay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موضعي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سكن موضعي (يزيد جريان الدم ليخفف آلام العضل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algia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سمم بالساليسيلات (مستحضرالساليسيلات القوي على نحو خاص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Acetaminophen (Tylenol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 , 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في الكب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يطرح الدواء الأصلي و المستقلبات في البو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لألم الخفيف إلى المتوس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حم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دوى الفيروسات عند الأطفال أوالأشخاص غيرالمتحملين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للاسبر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سبب الجرعة الزائدة سمية كبدية بسبب تكون المستقل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acetyl benzoquinone i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ُعالَج الجرعة الزائدة بإعطا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acetylcyste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6756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COX-2 Inhibitors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Celecoxib (Celebrex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تطرح في الكبد بأنزيم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تطرح المستقلبات في البراز و البو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لتهاب و الألم المترابط مع التهاب المفاصل الروماتيزم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 التهاب المفاصل العظم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سر الطمث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menorrh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ألم الخفيف إلى المتوس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أثيرات جانبية معدية معوية(التهاب المعدة , نزيف معدي معوي , تقرح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ذم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em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طفح الجل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rash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 القصب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ch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Rofecoxib (Vioxx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في الكب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تطرَح المستقلبات في البول ؛ و الدواء الأصلي في البرا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لألم الخفيف إلى المتوس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meno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تهاب و الألم المترابط مع التهاب الروماتيزمي و التهاب المفاصل العظ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Arial"/>
              </a:rPr>
              <a:t>مسكنات الألم و خافضات الحرارة المركزية و المحيط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Diflunisal (Dolobid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في الكب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تطرَح المستقلبات في البو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ألم الخفيف إلى المتوس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تهاب و الألم المترابط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 لكل مضادات الالتهاب 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NSAIDs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أثيرات معدية معوية (نزف , تهييج , تقرح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أثيرات كلوية (عسر التبو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ur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التهاب كلوي خلال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titial nephr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الفشل الكلو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l failur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zziness , heada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estatic hepatitis , jaund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c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h) skin eff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حكّ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.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urit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atologic effec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, thrombocytop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kopen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طن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nitu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دم وضوح الرؤ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rry vis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ذمة محيط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pheral edem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119664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Flurbiprofen (Ansaid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hthalm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في الكبد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ُطرَح الدواء الأصلي و المستقلبات في البو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ثبيط تقبض الحدقة في الجراح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mios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تهاب و الألم المترابط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14400" y="764640"/>
            <a:ext cx="8229600" cy="53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Ibuprofen (Motrin , Advil ,…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في الكب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يطرَح الدواء الأصلي و المستقلبات في البول و البرا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م الخفيف إلى المتوس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عالجة التهاب التامو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card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تهاب و الالم المترابط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حم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Naproxen (Naprosyn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في الكب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تطرح في المستقلبات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ي البو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لتهاب و الألم المترابط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سر الطمث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menorrh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حم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Indomethacin (Indocin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في الكب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يُطرَح الدواء الأصلي و المستقلبات في الب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8686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تهاب و الالم المترابط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التهاب الفقا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kylosing spondyl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ِغَلْق القناة الشريانية السالك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ent ductus arteriosu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 (بشكل وريدي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علاج التهاب التامو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سر الطمث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meno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عالجة أذيات الكتف و الذرا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Piroxicam (Feldene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في الكب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يطرح الدواء الأصلي و المستقلبات في البول و البرا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تهاب و الألم المترابط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t , OA , 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kylosing spondyl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سر الطمث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menorrh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14400" y="836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Ketorolac (Toradol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, IM , 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في الكب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يطرح الدواء الأصلي و المستقلبات في البول و البرا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0000"/>
                </a:solidFill>
                <a:uFillTx/>
                <a:latin typeface="Arial"/>
              </a:rPr>
              <a:t>الاستعمالات السريري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م المتوسط إلى الوخيم (مثل الألم بعد العملي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              ********************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0000"/>
                </a:solidFill>
                <a:uFillTx/>
                <a:latin typeface="Arial"/>
              </a:rPr>
              <a:t>آلية عمل الاسبرين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SAIDs</a:t>
            </a:r>
            <a:r>
              <a:rPr b="1" lang="ar-SY" sz="3600" spc="-1" strike="noStrike" u="sng">
                <a:solidFill>
                  <a:srgbClr val="000000"/>
                </a:solidFill>
                <a:uFillTx/>
                <a:latin typeface="Arial"/>
              </a:rPr>
              <a:t> و مثبطات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X II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الأدوية المستعملة في معالجة النقرُ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Drug Used in the Treatment of Gout</a:t>
            </a: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00cc"/>
                </a:solidFill>
                <a:uFillTx/>
                <a:latin typeface="Arial"/>
              </a:rPr>
              <a:t>تدبير النقرس  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MANAGING G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Indomethacin (Indocin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 الدوائ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مستقيما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في الكب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ُطرح الدواء الأصلي و المستقلبات في الب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ff"/>
                </a:solidFill>
                <a:uFillTx/>
                <a:latin typeface="Arial"/>
              </a:rPr>
              <a:t> نظرة عامة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يعد الأل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نتيجةً لعمليات كيميائية عصبية في الجهاز العصبي المحيطي و المركز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عتمد تخفيف الألم على نمط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ُعَ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A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فعالةً في الصدا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ach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ألم     المفاص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r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لخفيف إلى المتوسط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“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MOA” Mechanism of Action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 -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AID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ثبط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X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ُنقص إنتاج البروستاغلاندين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ثبِّط البلعم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gocytos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بلورات حمض البول بوساطة البلاع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ph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عالجة لالتهاب المفاصل النقرس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ty arthr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حا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أثيرات معدية معوية(تهييج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t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ed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cer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l effec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عسر التبو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ur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 التهاب كلوي خِلال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titial nephr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فشل كلو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l failur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 effec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ach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وخ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c effec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يرقا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undic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التهاب كبد صفراو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estatic hepat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atologic effec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mbocytopen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kopenia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Colchicine (Colsalide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في الكبد و النسج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تطرح المستقلبات في البو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MOA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-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عترِضْ حلقة الالتهاب , إذ يثبط هجرة الكريات البيض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kocyte migr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البلعم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gocytos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بلورات حمض اليوري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c acid crystal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reatment of goutty arthr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فيد الجرعات الصغيرة للمعالجة المزمنة للنقر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treatment of gou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90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ذو نافذة علاجية ضيقة , فيتوجب معايرته من أجل الجرعة الفعالة عند كل مريض إفرادي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كن أن تؤدي الجرعة الزائدة إل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hrotoxicity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otoxicit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لوفاة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th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ؤدي نصف العم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/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لطويل في كريات الدم البيض إلى التراكم المجموع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ic accumul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يجب الانتظار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يام بين الاستعمالات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جب إعطاء الجرعة الوريدية في قِثطار مستق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welling catheter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إذ يسبب التهييج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t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 side effec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(غثيان , تلبك البطن , قياء , إسهال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91396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Allopurinol (Zyloprim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يستقلب في الكبد ؛ يتكون مستقلب فعّال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purin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يطرح الدواء الأصلي في البراز ؛ تطرح المستقلبات في البول و البرا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MOA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-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حصر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anthine oxidas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بالتالي يُنْقِص إنتاج حمض اليوري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3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استعمالات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معالجة النقرس المزم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نبغي البدئ به بعد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سبوع من هجمة النقر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ُعَجِّل هجمة النقرس أثناء بدء المعالج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ضطرابات معدية معو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 جلد أليرج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 وعائ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 الأعصاب المحيط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ينبغي إعطاؤه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athioprin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ptopurin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 اللذان يستقلبان ب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anthine oxid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Probenecid (Benemid , Probalan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في الكب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طرَح الدواء الأصلي و المستقلبات في البو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MOA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-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زيد الاطراح البولي لحمض اليوريك (يثبط عودة امتصاص حمض اليوريك في النبيب لقري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ximal tubul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565200"/>
            <a:ext cx="822960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ثل سابق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 الجلد الأليرج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قمه/قه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rex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 غثيان و قياء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عجِّل/يزيد هجمة النقرس أثناء بدء العلاج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حصيات الكلو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l calculi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Sulfinpyrazone (Anturan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حرائك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في الكبد و الأمعاء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ُطرح الدواء الأصلي و المستقلبات في البو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لهذا الدواء نفس آلية و استعمال البروبنسيد و تأثيراته الجانب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ستجيب الألم العصبي المنش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ge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كث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 ل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ثل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triptylin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لمثبطات استرداد السيروتونين/ النورإبينفرين مث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xetin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كثر م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AID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الأفيونات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oid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703440"/>
            <a:ext cx="914400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مضاهئات البروستاغلاندينات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Prostaglandin Analogs</a:t>
            </a: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0000"/>
                </a:solidFill>
                <a:uFillTx/>
                <a:latin typeface="Arial"/>
              </a:rPr>
              <a:t>أ-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PGE1 an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Alprostadil (Prostin,Muse,Caverject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حرائك الدوائية 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Pharmacokinetics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cavernosal injec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تحاميل داخل الاحلي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urethral suppositor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يستقلب في الرئت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تُطرَح المستقلبات في البو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-الاستعمالات السريرية ”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Clinical Uses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محافظة على القناة الشريانية السالكة /المنفتح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ent ductus arterios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عند الرض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an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لمصابين بهذه الحالة أو المترافقة مع عيوب قلبية خلق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nital heart defec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إلى حين الإصلاح الجراحي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i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خلل الانتصا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ctile dysfunc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erjec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٭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 حقناً بالعض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le injec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؛ تحامي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٭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 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“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Side Effects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”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ورُّد الوجه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ycardia/tachycar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إسه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قد يسبب إنسداداً معدياً على نحو ثانوي لفرط التنسُّج الغاري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ral hyperplas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ند حديثي الولاد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o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Misoprostol (Cytotec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90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 الدوائ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ستقلب على نحو كبير بالمرور الأول (ربما في السبيل الهضمي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تُطرَح معظم المستقلبات في البول ؛ الباقي في البرا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لمعالجة و الوقاية من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ced gastric ulcer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امِل مُجهِض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rtifa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لحث على الولاد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ction of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-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أثيرات هضمية (وجع البط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ominal pai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rh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ip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تخمة /عسر الهض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peps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صدا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ach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نزف مهبل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ginal bleed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00cc"/>
                </a:solidFill>
                <a:uFillTx/>
                <a:latin typeface="Arial"/>
              </a:rPr>
              <a:t>ب-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PGE2 an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Dinoprostone (Prepidil,ProstineE2,Cervidil)</a:t>
            </a:r>
            <a:r>
              <a:rPr b="1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حرائك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هلامة مهبل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ginal ge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تحاميل مهب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ستقلب في الرئتين و الكليتين و الطحال و باقي النسج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ُطرَح معظم الدواء الأصلي و مستقلباته في البول ؛ الباقي يطرح في البرا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حاميل مهبلية لشق العُنق و الحض على الولادة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idil-ge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حض على الإجهاض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r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inE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تحاميل مهب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ستعمل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vidi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٭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كلاً من الاستطبابين السابق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نفضات/قشعرير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ls/shiv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أثيرات هضمية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usea , diarrhea , abdominal pai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mit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ach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00cc"/>
                </a:solidFill>
                <a:uFillTx/>
                <a:latin typeface="Arial"/>
              </a:rPr>
              <a:t>ج- 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PGI2 an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Epoprostenol (Flolan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تحلمه في البلازم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طرح معظم المستقلبات في البول ؛ الباقي في البرا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monary hyperten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(الملاز الأخير , قليل الفعالية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ورَّ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sh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أثيرات هضمية (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ominal pai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rh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us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mit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60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ff"/>
                </a:solidFill>
                <a:uFillTx/>
                <a:latin typeface="Arial"/>
              </a:rPr>
              <a:t>الأفيونات </a:t>
            </a: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Opioids</a:t>
            </a:r>
            <a:r>
              <a:rPr b="1" lang="ar-SY" sz="4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Y" sz="3600" spc="-1" strike="noStrike" u="sng">
                <a:solidFill>
                  <a:srgbClr val="0000ff"/>
                </a:solidFill>
                <a:uFillTx/>
                <a:latin typeface="Arial"/>
              </a:rPr>
              <a:t>الملخّص 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 u="sng">
                <a:solidFill>
                  <a:srgbClr val="0000ff"/>
                </a:solidFill>
                <a:uFillTx/>
                <a:latin typeface="Arial"/>
              </a:rPr>
              <a:t>  </a:t>
            </a:r>
            <a:r>
              <a:rPr b="1" lang="ar-SY" sz="3600" spc="-1" strike="noStrike" u="sng">
                <a:solidFill>
                  <a:srgbClr val="0000ff"/>
                </a:solidFill>
                <a:uFillTx/>
                <a:latin typeface="Arial"/>
              </a:rPr>
              <a:t>-الحرائك الدوائية العامة للأفيون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متص جيداً بإعطائها في العضل, تحت الجلد ومن المقرّات                            المخاط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osal site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؛ عادةً ما يتولّف الإعطاء الفموي مع استقلاب شديد بالمرور الأوّ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عتمد توزيعها على الخواص الكيميائية لكل منها ؛ البعض منها يعبُر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BB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وتعبر جميعها المشيم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nt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سريعا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خضع معظمها للاستقلاب في الكبد إلى مستقلبات قطبية 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طرح المستقلبات القطبية كلوياً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ُعَد الأفيونات مختارة للألم الخبيث الوخي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المزم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أفيون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oid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كبات طبيعية أو صنعية تعطي تأثيرات مشابهة للمورف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ُدخَر المصطلح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at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أدوية مثل المورفين و الكوديين المستحصلة من عصارة الأفيو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um popp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Y" sz="4400" spc="-1" strike="noStrike" u="sng">
                <a:solidFill>
                  <a:srgbClr val="0000ff"/>
                </a:solidFill>
                <a:uFillTx/>
                <a:latin typeface="Arial"/>
              </a:rPr>
              <a:t>آلية الفِعل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ستند آلية فعلها إلى المستقبلات داخلية المنشأ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genous receptor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يو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1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_ مستقبلات مسكّن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وجودة فوق النخاع الشوكي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spainall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يو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_ مستقبلات مسكّنة موجودة في الحبل الشوك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anl cord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تتواسَط أيضا ً تثبيط التنفس و التثبيط العابر للسبيل المعدي المعو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إن وظيفة المستقبلات دلتا ” ∂ ” غير معروفة حتى الآ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كاب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1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_ مستقبلات مسكّنة موجودة في الحبل الشو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كاب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_ مستقبلات مسكّنة فوق النخاع الشوك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spi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20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الإستخدامات السريرية للمنبهات/الناهضات الأفيونية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لتسك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للألم الخفيف إلى المعتد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في الوذمة الرؤية الحاد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pulmonary edem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  تهدئ المريض و تُبطئ التنف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في إحتشاء عضلة القل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ocardial infarc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لتأثيراتها المسكنة و المركب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ativ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في بداية التخدي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anesthet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كمركنة و مسكن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خدر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esthet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ضادة للسع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tussiv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ضادة للإسه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diarrhea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893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التأثيرات الضائرة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dvers Effects</a:t>
            </a: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أ-التأثيرات الجانبية الحادة 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Acute Side Effects</a:t>
            </a: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غثيان و الإقيا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usea and vom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إمسا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ip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شوش التفكي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 cloud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صلابة العضل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ular rigidit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شَمَق / نشوة / زهوّ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phor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(الشعور بالنشاط و الخف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دم الشعور بالارتياح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phor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(الانزعاج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ثبيط مركز التنف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ضيق الحدق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os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ff"/>
                </a:solidFill>
                <a:uFillTx/>
                <a:latin typeface="Arial"/>
              </a:rPr>
              <a:t>ب-التأثيرات الجانبية 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Chronic Side Effects</a:t>
            </a: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حمّ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حمل المتصالب / المتقاط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 to leranc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بين أدوية الصِن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عتماد الفيزيولوج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ff"/>
                </a:solidFill>
                <a:uFillTx/>
                <a:latin typeface="Arial"/>
              </a:rPr>
              <a:t>ج-السميّات 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Toxicities</a:t>
            </a: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ؤدي الجرعة الزائدة إلى السبات / الغيبوب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ع تثبيط التنفس و نقصان ضغط الدم و يمكن أن تحدث الوفا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حدوث تثبيط مضا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v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عندما تُشارَك مع مركنات/ منومات , مخدر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esthetic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مضادات الذها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psychotic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A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أو مع مضادات الهيستام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histamine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د-متلازمة الإمتناع 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Abstinence Syndrome</a:t>
            </a: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ثَرّ الأنف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inorrh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الدَمعا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rim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ثاؤ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wn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قل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xiet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العدائية/ العمل العدائ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ilit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نفض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l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القشعرير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seflesh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انكماش الجلد من بَرد أو خو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وجاع عضل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 ache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إسه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rh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  تتضمن الأفيونات داخلية المنشأ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ogenous</a:t>
            </a: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  ال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orphins </a:t>
            </a: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kephali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 وا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orphi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360" y="-27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 u="sng">
                <a:solidFill>
                  <a:srgbClr val="0000cc"/>
                </a:solidFill>
                <a:uFillTx/>
                <a:latin typeface="Arial"/>
              </a:rPr>
              <a:t>-</a:t>
            </a:r>
            <a:r>
              <a:rPr b="1" lang="ar-SY" sz="3600" spc="-1" strike="noStrike" u="sng">
                <a:solidFill>
                  <a:srgbClr val="0000cc"/>
                </a:solidFill>
                <a:uFillTx/>
                <a:latin typeface="Arial"/>
              </a:rPr>
              <a:t>تصنيف الأفيونات بوساطة آلية الفع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Opioids by mechanism of action</a:t>
            </a:r>
            <a:r>
              <a:rPr b="1" lang="ar-SY" sz="36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ff00ff"/>
                </a:solidFill>
                <a:uFillTx/>
                <a:latin typeface="Arial"/>
              </a:rPr>
              <a:t>أ-المنبهات/ الناهضات الأفيونية القوية</a:t>
            </a:r>
            <a:r>
              <a:rPr b="1" lang="en-US" sz="2800" spc="-1" strike="noStrike" u="sng">
                <a:solidFill>
                  <a:srgbClr val="ff00ff"/>
                </a:solidFill>
                <a:uFillTx/>
                <a:latin typeface="Arial"/>
              </a:rPr>
              <a:t>Strong opioid agonists</a:t>
            </a:r>
            <a:r>
              <a:rPr b="1" lang="ar-SY" sz="32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a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mor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per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nta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enta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enta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ff00ff"/>
                </a:solidFill>
                <a:uFillTx/>
                <a:latin typeface="Arial"/>
              </a:rPr>
              <a:t>ب-الناهضات الأفيونية الضعيفة إلى المعتد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ff"/>
                </a:solidFill>
                <a:uFillTx/>
                <a:latin typeface="Arial"/>
              </a:rPr>
              <a:t>Weak to moderate opioid agonists</a:t>
            </a:r>
            <a:r>
              <a:rPr b="1" lang="ar-SY" sz="28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co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xyph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xtromethorp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henoxy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no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pera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ff00ff"/>
                </a:solidFill>
                <a:uFillTx/>
                <a:latin typeface="Arial"/>
              </a:rPr>
              <a:t>ج-الأفيونات المزيجة الناهضة و الضادة مع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Mixed acting opioid agonist- antagonists</a:t>
            </a:r>
            <a:r>
              <a:rPr b="1" lang="ar-SY" sz="32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tazo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bup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orpha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prenorp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عمل الأفيونات عبر الإرتباط بالمستقبلات الأفيون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oid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ptor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في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فتحدث تأثيرات محاكية للنواقل العصبية الببتيدية داخلية المنشأ مثل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kephalin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ُفرج الأفيونات الألم الشديد و القلق المرافق له , سواءً ألم الجراحة أو الإصابة أو المرض مثل السرطا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ff00ff"/>
                </a:solidFill>
                <a:uFillTx/>
                <a:latin typeface="Arial"/>
              </a:rPr>
              <a:t>د-ضواد الأفيونات </a:t>
            </a:r>
            <a:r>
              <a:rPr b="1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Opioid antagonists</a:t>
            </a:r>
            <a:r>
              <a:rPr b="1" lang="ar-SY" sz="32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ox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trex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أ-الناهضات/المنبهات الأفيونية القوية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* المورفين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orphine(MSContin,Duramorph)</a:t>
            </a:r>
            <a:r>
              <a:rPr b="1" lang="ar-SY" sz="32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٭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نبه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 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؛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؛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lang="ar-SY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, SC , IM , IV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التوافرالبيولوجي الفموي ضعي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ُنتج مستقبلات غلوكورونية بعضها فعّال .. شديد الاستقلاب بالمرور الأول بعد إعطائه الفمو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سكين الأل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رك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ُنقِص إدراك ضيق النف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pn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ند مرضى الوزمة الرئو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monary edem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الملخص الساب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حك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ch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إطلاق الهيستام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*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Heroin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ذو تأثير على المستقبلات مماثل للمورف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 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, IV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داخل الأن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nasa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طليعة دوا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ru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لمورفين ذو ذوبانية أعلى في الشح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لهذا يعبر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BB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بسهو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إستخدامات السريري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دوا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حظور في المعاقر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الملخ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أدوية المعاقرة (سوء الاستخدام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of Abus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في الفص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ن أجل المزيد من المعلوم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7487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Methadone(Dolophine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٭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 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؛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بالجرعات العالية 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بالجرعات العا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 , 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لأفيون ذو المفعول الأطَول أمدا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ستخدم في معالجة الإدمان على الأفيونات ذات المفعول قصير الأمد مثل المورفين و الهيروئي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ظر الملخص الساب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Hydromorphone(Dilaudid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ذو تأثيرعلى المستقبلات مماثل للميثادو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 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 , IV , IM , 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شديد الإستقلاب في المرورالأول بعد إعطائه فمويا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يُعَد الإعتما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شكلة عند المرض المعالجين بهذه العوامل للألم الوخي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ستعمل ضواد الأفيون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tagonis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علاج الجرعة الزائدة من الأفيون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تسك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عن الأفيو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إن قوته العالية على المعاقرة حدَّت من استخدام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Meperidine (Demerol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تأثيره 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ثل الميثادو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, IM , PO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يستقلب إل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eperidin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ينبه المجموعة الصغائرية الكبد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c microsomal syste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على تنظي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إستقلاب نفسه صعودا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regulat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82296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ضاد استطبا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indicated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عند المصابين بالصر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leptic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الملخّ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قد يحدث تناذر السيروتون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otonin syndrom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عندما يُوَلّف مع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R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 inhibitor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أثيرات الجانبية لمضادات الموسكا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حتمل أن يسبب النوب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izure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إطلاق الهيستام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amine releas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إمساك أقل شيوع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Fentanyl (Sublimaze , Duragesic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تأثيراته 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ثل الميثادون أيض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blimaz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رُقََع عبرالجل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dermal patch (Duragesic)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الملخص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6160" y="242100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Alfentanil (Alfenta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ذو تأثير على المستقبلات مثل سابق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: 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قل قوةً من الفينتاني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ntany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ظر الملخ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Sufentanil (Sufenta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ذو تأثير على المستقبلات مثل الميثادو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قوى من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ntany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-5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الملخ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642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 u="sng">
                <a:solidFill>
                  <a:srgbClr val="0000cc"/>
                </a:solidFill>
                <a:uFillTx/>
                <a:latin typeface="Arial"/>
              </a:rPr>
              <a:t>ب-الناهضات الأفيونية المعتدلة إلى الضعيفة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(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Moderate to Weak opioid Agonists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)</a:t>
            </a:r>
            <a:r>
              <a:rPr b="1" lang="ar-SY" sz="3200" spc="-1" strike="noStrike" u="sng">
                <a:solidFill>
                  <a:srgbClr val="0000cc"/>
                </a:solidFill>
                <a:uFillTx/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*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Codeine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 التأثيرات 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تماثلة في كل مركبات الصِنف - ب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بالجرعات العالية 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بالجرعات العال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 , 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عبر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B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سرع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ru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يتحوَّل إلى مورف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ضاد للسع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tu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ستخدم كمسكِّن عندما يُشارك مع الأسبير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مع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aminophe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ظر الملخص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ch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أنه يُطلق الهيستام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144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*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Oxycodone (Oxycontin)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سكِّن عند توليفه مع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od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oc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aminophe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الملخص عن الأفيو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144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Propoxyphene (Darvon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* 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ذو فوائد سريرية محدو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سكن عند توليفه مع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aminophe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الملخص الساب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رابطت الوفيات مع معاقرته (إساءة استخدامه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0000ff"/>
                </a:solidFill>
                <a:uFillTx/>
                <a:latin typeface="Arial"/>
              </a:rPr>
              <a:t>-تصنيف مسكنات الألم غير المخد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1</a:t>
            </a:r>
            <a:r>
              <a:rPr b="1" lang="ar-SY" sz="28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NS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 u="sng">
                <a:solidFill>
                  <a:srgbClr val="ff00ff"/>
                </a:solidFill>
                <a:uFillTx/>
                <a:latin typeface="Arial"/>
              </a:rPr>
              <a:t>أ-</a:t>
            </a:r>
            <a:r>
              <a:rPr b="1" lang="ar-SA" sz="2800" spc="-1" strike="noStrike" u="sng">
                <a:solidFill>
                  <a:srgbClr val="ff00ff"/>
                </a:solidFill>
                <a:uFillTx/>
                <a:latin typeface="Arial"/>
              </a:rPr>
              <a:t>مثبطات السيكو أكسيجيناز اللاانتقائية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Non-selectiv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COX Inhibitors</a:t>
            </a:r>
            <a:r>
              <a:rPr b="0" lang="ar-SY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i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luni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upro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rox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ometha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ind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roxi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torol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ff"/>
                </a:solidFill>
                <a:uFillTx/>
                <a:latin typeface="Arial"/>
              </a:rPr>
              <a:t>ب-مثبطات السيكو أكسيجيناز </a:t>
            </a:r>
            <a:r>
              <a:rPr b="1" lang="en-US" sz="2800" spc="-1" strike="noStrike" u="sng">
                <a:solidFill>
                  <a:srgbClr val="ff00ff"/>
                </a:solidFill>
                <a:uFillTx/>
                <a:latin typeface="Arial"/>
              </a:rPr>
              <a:t>II</a:t>
            </a:r>
            <a:r>
              <a:rPr b="1" lang="ar-SY" sz="2800" spc="-1" strike="noStrike" u="sng">
                <a:solidFill>
                  <a:srgbClr val="ff00ff"/>
                </a:solidFill>
                <a:uFillTx/>
                <a:latin typeface="Arial"/>
              </a:rPr>
              <a:t> الانتقائية </a:t>
            </a:r>
            <a:r>
              <a:rPr b="1" lang="en-US" sz="2800" spc="-1" strike="noStrike" u="sng">
                <a:solidFill>
                  <a:srgbClr val="ff00ff"/>
                </a:solidFill>
                <a:uFillTx/>
                <a:latin typeface="Arial"/>
              </a:rPr>
              <a:t>COX II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</a:rPr>
              <a:t> inhibitors</a:t>
            </a:r>
            <a:r>
              <a:rPr b="0" lang="ar-SY" sz="28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ecox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fecox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2</a:t>
            </a:r>
            <a:r>
              <a:rPr b="1" lang="ar-SY" sz="2800" spc="-1" strike="noStrike" u="sng">
                <a:solidFill>
                  <a:srgbClr val="0000cc"/>
                </a:solidFill>
                <a:uFillTx/>
                <a:latin typeface="Arial"/>
              </a:rPr>
              <a:t>-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Acetaminop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*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Dextromethorpha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(Sucrets,RoitussinDM)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ar-SY" sz="32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tussiv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٭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الملخص ؛ أقل خطراً من حيث تأثيراته الجانبية بسبب خواصه الأقَّل تنبيهاً للمستقبلات الأفيون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*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Diphenoxylate (Lomotil)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معالجة الاسه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ضاف له مقدار قليل من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opin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منع إساءة  استخدامه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ثل سابق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65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Difenoxin (Motofen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ماثل ل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henoxy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ن حيث الحرائك و الاستخدام و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Loperamide (Imodium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معالجة الاسه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 u="sng">
                <a:solidFill>
                  <a:srgbClr val="0000cc"/>
                </a:solidFill>
                <a:uFillTx/>
                <a:latin typeface="Arial"/>
              </a:rPr>
              <a:t>ج-الأفيونات المزيجة الناهضة و الضادة معاً 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(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Mixed..Agonist/Antagonists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)</a:t>
            </a:r>
            <a:r>
              <a:rPr b="1" lang="ar-SY" sz="36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Nalbuphine (Nubain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r>
              <a:rPr b="1" lang="ar-SA" sz="40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 Ant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تأثير هام على 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,IM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يوجد احتمال المعاقر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buse potent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ادةً ما يستخدم أكثر من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tazocin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هو أكثر مأمونيةً من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144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 تنطبق على كل هذا الصنف - ج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دوخ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عرّ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at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us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xiet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lucination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قل إحداثاً لتثبيط التنفس مقارنةً مع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dependenc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عراض الانسحاب منه أخَفّ / خفي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549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*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Pentazocine(Talwin)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عل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µ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تأثير هام على 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, IM , 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 الاستخدام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Butorphanol (Stadol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ثأثير 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µ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تأثير هام على 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g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, IM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بخاخ أن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al spra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حتمالية المعاقرة قليل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abuse potentia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00ff"/>
                </a:solidFill>
                <a:latin typeface="Arial"/>
              </a:rPr>
              <a:t>*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Buprenorphine (Buprene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 التأثير 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µ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ificant ∂ activit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nt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عالجة محافظة أثناء إزالة سمية الهيروئين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 u="sng">
                <a:solidFill>
                  <a:srgbClr val="0000cc"/>
                </a:solidFill>
                <a:uFillTx/>
                <a:latin typeface="Arial"/>
              </a:rPr>
              <a:t>د-ضواد المورفين 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Opioid Antagon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Naloxone (Narcan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٭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 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 Ant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nt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, IM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؛ النجاع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ac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لفموية ضئيل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:D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686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Aspirin (Bayer Aspirin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مستقيمياً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يتحلمه في الكبد والسبيل المعدي المعو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 trac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البلازما؛ ثم يخضع لاستقلاب كبدي إضافي مع الدور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تُطرَح المستقلبات في البو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لحمّ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تفريج الوجع الخفيف إلى المتوس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تهاب و الوجع المترابط مع بعض الاضطرابات مثل التهاب المفاصل الروماتيزم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التهاب المفاصل العظم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eoarthr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معالجة الجرعة الزائدة الحادة (الكبيرة) من الأفيون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of acute opioid overdos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قصير المفعول, لهذا يتطلب إعادة/تكرارالإعط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بسبب متلازمة إمتناع شديد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se abstinenc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ند المرضى المعتمدين على الأفيونا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Naltrexone (Trexan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ثل سابقه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 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؛ جيد الامتصا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-2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ساع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معالجة الجرعة الزائدة من الأفيو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عالجة مساندة في برامج معالجة الاعتماد على الكحو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سبب الاستخدام طويل الأمد سمية كبد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otoxicit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سبب متلازمة امتناع شديدة عند المرضى المعتمدين على الأفيو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8:16:44Z</dcterms:created>
  <dc:creator>tar</dc:creator>
  <dc:description/>
  <dc:language>en-US</dc:language>
  <cp:lastModifiedBy>tar</cp:lastModifiedBy>
  <dcterms:modified xsi:type="dcterms:W3CDTF">2007-03-27T19:02:45Z</dcterms:modified>
  <cp:revision>155</cp:revision>
  <dc:subject/>
  <dc:title>الشريحة 1</dc:title>
</cp:coreProperties>
</file>