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1F9-604B-49F1-8771-3EF87B42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597-A4A9-4197-B434-D998479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054-305F-49C8-B8B8-07BFB50D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EE8-631B-4145-8A98-10E875F7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1ED-EBC5-437D-8786-BB40C48E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5A3-BC15-4015-93CD-ED9CB061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EFE-4552-4124-9AFD-28DD1FD1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E27-943C-442F-A8C7-4EEFB55D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D9C-5A5D-4D06-A1EB-F8C58C83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A6A-F32E-48C3-83B3-6943CA5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AC6-EF72-4456-99AB-95F11493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215-936E-425B-AE21-E8E7DF8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EB89E-3259-4ACE-8E97-99CD947B76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7AA31-B542-4AB4-8CE1-94F263D6F2E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4" descr="278-1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4" descr="27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4" descr="278-2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4" descr="27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9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2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2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2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5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27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8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4" descr="278-3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4" descr="27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4" descr="278-4 copy"/>
          <p:cNvPicPr/>
          <p:nvPr/>
        </p:nvPicPr>
        <p:blipFill>
          <a:blip r:embed="rId11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18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21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24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27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4" descr="278-후렴end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9-24T08:04:13Z</dcterms:modified>
  <cp:revision>7</cp:revision>
  <dc:subject/>
  <dc:title>슬라이드 1</dc:title>
</cp:coreProperties>
</file>