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A10-9E31-463B-BB5D-F37F4D87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1D0-E193-42E8-BBAB-86F76B3C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3B9-E17C-422D-BB80-9EE4FDA8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074-116B-4301-A207-4239DB3C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AF9-911B-4FC9-8FC5-56FFBFA5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580-217F-4CBB-A753-00795E0A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2ED-C506-49E5-B17F-3A7E239E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A9B-A115-429F-BE64-26F9034F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1E3-56DC-42C5-BFC1-6B18EA4D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150-74F9-45D4-B58D-3AAA9E4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E1E-EB53-4AA0-B3E6-457A6D4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0C1-3F5B-47B2-85AD-EE6763A3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D904C-343A-434B-B809-704198DDD8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80572-77CA-4992-A7A8-BC06214ACA0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4" descr="278-1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4" descr="27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4" descr="278-2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4" descr="27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9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2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2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2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5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27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8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4" descr="278-3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4" descr="27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4" descr="278-4 copy"/>
          <p:cNvPicPr/>
          <p:nvPr/>
        </p:nvPicPr>
        <p:blipFill>
          <a:blip r:embed="rId11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18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21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24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27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4" descr="278-후렴end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9-24T08:04:13Z</dcterms:modified>
  <cp:revision>7</cp:revision>
  <dc:subject/>
  <dc:title>슬라이드 1</dc:title>
</cp:coreProperties>
</file>