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3837-A4F5-443D-975B-54FABA44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888-9E27-47F9-BEA3-8D501724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0A92-FBE3-45B8-A98F-0A61D493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AFD-2650-4862-B499-EEE94050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6F1-17AB-4C4A-BC14-0D062386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B54-E84F-4333-A73B-46785DD8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F76-04F7-42B9-9912-C6037CE7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7A3-60B7-4B6D-9EDF-2E8F97F2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BE6-71D6-471E-AEDD-364A47EC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26A9-0D62-45E4-99D9-C2662BEB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58E5-EE43-4663-A4DB-9172F7B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ACE-D3FF-4ADB-8E6C-0E2FD83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D49D-63D5-48E6-8FF6-A4ABB58A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F6C5-0FEB-49D9-9D6E-46503BF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99C4-7845-411C-8712-37E48B0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FD0F-809C-4D9A-ADDE-7158A44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701-17EB-46ED-8537-3B783E96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1BF-B298-42BA-A86B-15A935A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A08A-F56B-4BF6-822B-7F2F597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1C35-1E7D-4D88-9C8A-C906C6C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205-E0CB-4D65-B517-0D4223D9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5798-C77D-4A3D-94E9-79A2F645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0CC-B621-4B1A-8A7C-878D91A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43F-CF56-4A28-AB05-00C971C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B6F-01C0-4FCB-ACBD-450CC2D9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D36-DB55-478F-9427-EFF4F32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350-D25F-4BEB-BB99-6023C2DC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E56-58EA-4A70-9C8E-FA82349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DA0-6B15-4C11-AB9D-422637A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E82-A8A7-4689-8FA0-51FD819B56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A13-C47F-4026-9AFD-392F5029FB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66680" y="48769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tan Ayoub M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BS, Ph.D, F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, Department of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ge of Medicine, King Saud University, Riy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33"/>
          <p:cNvSpPr/>
          <p:nvPr/>
        </p:nvSpPr>
        <p:spPr>
          <a:xfrm>
            <a:off x="8380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THE BOOK copy"/>
          <p:cNvPicPr/>
          <p:nvPr/>
        </p:nvPicPr>
        <p:blipFill>
          <a:blip r:embed="rId1"/>
          <a:stretch/>
        </p:blipFill>
        <p:spPr>
          <a:xfrm>
            <a:off x="1600200" y="2057400"/>
            <a:ext cx="6324480" cy="2514600"/>
          </a:xfrm>
          <a:prstGeom prst="rect">
            <a:avLst/>
          </a:prstGeom>
          <a:ln w="88920">
            <a:solidFill>
              <a:srgbClr val="660066"/>
            </a:solidFill>
            <a:miter/>
          </a:ln>
        </p:spPr>
      </p:pic>
      <p:pic>
        <p:nvPicPr>
          <p:cNvPr id="107" name="Picture 20" descr="sa-flag1"/>
          <p:cNvPicPr/>
          <p:nvPr/>
        </p:nvPicPr>
        <p:blipFill>
          <a:blip r:embed="rId2"/>
          <a:stretch/>
        </p:blipFill>
        <p:spPr>
          <a:xfrm>
            <a:off x="3581280" y="2057400"/>
            <a:ext cx="609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C:\Documents and Settings\Sultan Ayoub Meo\My Documents\My Pictures\CE087600FG0010.gif"/>
          <p:cNvPicPr/>
          <p:nvPr/>
        </p:nvPicPr>
        <p:blipFill>
          <a:blip r:embed="rId1"/>
          <a:stretch/>
        </p:blipFill>
        <p:spPr>
          <a:xfrm>
            <a:off x="990720" y="17524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W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2" descr="C:\Documents and Settings\Sultan Ayoub Meo\My Documents\My Pictures\WBCs.jpg"/>
          <p:cNvPicPr/>
          <p:nvPr/>
        </p:nvPicPr>
        <p:blipFill>
          <a:blip r:embed="rId1"/>
          <a:stretch/>
        </p:blipFill>
        <p:spPr>
          <a:xfrm>
            <a:off x="1219320" y="1752480"/>
            <a:ext cx="7391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C:\Documents and Settings\Sultan Ayoub Meo\My Documents\My Pictures\image.png"/>
          <p:cNvPicPr/>
          <p:nvPr/>
        </p:nvPicPr>
        <p:blipFill>
          <a:blip r:embed="rId1"/>
          <a:stretch/>
        </p:blipFill>
        <p:spPr>
          <a:xfrm>
            <a:off x="990720" y="167652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1" descr="C:\Documents and Settings\Sultan Ayoub Meo\My Documents\My Pictures\CDR0000526538.jpg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FUNCTIONS OF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914400" y="1682640"/>
            <a:ext cx="69343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st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loss via clotting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munity / Defenc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990720" y="1540440"/>
            <a:ext cx="693396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of RB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BCs  are produced in  different sites of the body during different  stages which are described 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st Trimester(First 3 months of pregna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BCs  are produced from fetal life. During the first  trimester of pregnancy, RBCs are produced in the yolk sa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d Trimester (3-6 months of pregnan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2nd trimester of pregnancy, RBCs are produced  mostly in the liver and in the spleen and lymph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914400" y="1693800"/>
            <a:ext cx="8229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rd Trimester (6-9 months of pregna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last trimester  of pregnancy and after birth, they are produced from bone ma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ne marrow of all bones produces red blood cells up to the  age  of 5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fter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ge of 20,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marrow of  long bones does not produce RBCs due to the deposition  of fatty cells with the exception of the proximal portion of the humerus  and tib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fter  25 years, RBCs are mostly produced in the marrow of membranous bones such the sternum,  ribs, vertebrae and  i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2" descr="C:\Documents and Settings\Sultan Ayoub Meo\My Documents\My Pictures\12664.jpg"/>
          <p:cNvPicPr/>
          <p:nvPr/>
        </p:nvPicPr>
        <p:blipFill>
          <a:blip r:embed="rId1"/>
          <a:stretch/>
        </p:blipFill>
        <p:spPr>
          <a:xfrm>
            <a:off x="990720" y="1676520"/>
            <a:ext cx="7467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DEVELOPMENT OF 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914400" y="1847880"/>
            <a:ext cx="74674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RB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emocyt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is large 20 ‑ 25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ss 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 decreased 15 ‑ 17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moglobin synthesis start from this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asophilic 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 further decreased 12 ‑ 15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conden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oli rudimentar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DEVELOPMENT OF 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914400" y="1846800"/>
            <a:ext cx="6324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ychromatophilic 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further decreased 10 ‑ 12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conden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 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thochromatic 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 decreased to  8‑1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more conden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icul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and mitochondria are condensed and start disappe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normal, 7‑8 m in di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ure  RB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914400" y="1697040"/>
            <a:ext cx="463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is a specialized type of connective tissue. It is mesodermal in origin and is made up of two parts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ellular part (formed element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non cellular part (plas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Sultan Ayoub Meo\My Documents\My Pictures\91871-034-DA6BA042.jpg"/>
          <p:cNvPicPr/>
          <p:nvPr/>
        </p:nvPicPr>
        <p:blipFill>
          <a:blip r:embed="rId1"/>
          <a:stretch/>
        </p:blipFill>
        <p:spPr>
          <a:xfrm>
            <a:off x="5791320" y="1752480"/>
            <a:ext cx="3047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 / W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1752480"/>
          <a:ext cx="7239240" cy="3962520"/>
        </p:xfrm>
        <a:graphic>
          <a:graphicData uri="http://schemas.openxmlformats.org/drawingml/2006/table">
            <a:tbl>
              <a:tblPr/>
              <a:tblGrid>
                <a:gridCol w="3800520"/>
                <a:gridCol w="343872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BC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nucl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ge s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 in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ins no hemoglo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ins hemoglo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cou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life span is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 span is 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not form bile pig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 bile pig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nsive func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ffering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609480" y="16236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 is a red, oxygen carrying pigment present in RBCs. It is a chromoprotein consisting of heme (4%) and globin (96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 hemoglobin in the  body is 700-900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BC has 29 peco grams of H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RBC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   = 36gm /10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 = 34gm/ 10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o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 = 14 ‑ 16 g/100 ml;  Females =  12 ‑ 14 g/100 ml:  In fetus  and new bor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gm/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C:\Documents and Settings\Sultan Ayoub Meo\My Documents\My Pictures\0143.gi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Picture 1" descr="C:\Documents and Settings\Sultan Ayoub Meo\My Documents\My Pictures\0143.gif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Picture 1" descr="C:\Documents and Settings\Sultan Ayoub Meo\My Documents\My Pictures\hemoglobin-picture.jpg"/>
          <p:cNvPicPr/>
          <p:nvPr/>
        </p:nvPicPr>
        <p:blipFill>
          <a:blip r:embed="rId1"/>
          <a:stretch/>
        </p:blipFill>
        <p:spPr>
          <a:xfrm>
            <a:off x="1143000" y="19051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914400" y="16207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moglobin is  of two types adult hemoglobin Hb A and Fetal hemoglobin Hb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dul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Hb 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 alpha and 2 beta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Hb A2 = 2.5% = 2 alpha a and  2delta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E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Hb  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alph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2 gama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mia may be defined as the decreased  percentage of Hb in the blood below the reference level for the age and sex of the indivi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ass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.     Blood loss Anem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ute post hemorrhagic anem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ronic hemorrhagic anem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ptic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itic (hookworm)  in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i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       Increase rate of destruction of RB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molytic An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   Impaired red cell pro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 Disturbance of proliferation and  differentiation of stem cells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Aplastic An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ure red blood cell apl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Anemia due to ren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Anemia due to endocrine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ubance of proliferation and maturation of RBC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ective DNA synthe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ency or impaired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vitamin B12 and folic ac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galoblastic an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ective Hb synthe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ent heme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ron deficiency an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ent glob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alass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. Abnormal form of H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kle cell an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RBC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de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c acid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astic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BC loss or de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IRON DEFICIENCY 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8006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dietary iron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bsorption: Gastrectomy, chronic diarrhea, celiac sp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ron needs: pregnancy and la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occult blood loss: bleeding ulcers, GI inflammation, hemorrhoids, cancer, chronic hemoglobi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trual bloo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838080" y="1695600"/>
            <a:ext cx="80010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lular part ( formed elements )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BCs, ( Red blood cells) or erythr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BCs, ( white blood cells )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uk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 Granular leukocytes ( granulocyt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troph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osinoph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oph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. Agranular leukocytes (agranulocy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ymph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s (thromboc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n‑cellular part of blood ( plasma ): 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ron-binding capacity (TI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Ferr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supplements, oral or paren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.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T. B12 DEFICIENCY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nicious anemia:  lack of intrinsic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eal resections, loss of pancreatic secretions, chronic gast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 veget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lling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. B12 paren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LIC ACID DEFICIENCY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intak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ally malnour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addicted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: neural tube defects in f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experiencing rapi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bsorption disorders: Celiac sp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taking methotrexate and other chemo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CKLE CELL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physi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somal recessive genetic de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xemia:  abnormal HbS deoxyge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scent or sickle shape R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d cells clump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ned RBCs, hemoly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ed RBC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CKLE CELL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crises arise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environmental or body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iv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CKLE CELL CRIS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or, fatigue, jaundice, ir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ful swelling hands and feet, large joints, priapism, abdominal pain, st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ools in liver and spl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: Sickle cell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TERVENTION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precipitating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c acid sup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QUIRED HEMOLY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trauma to RBC: prosthetic heart 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l or protozoan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system-mediated res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, toxins, chemical agents, ven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enomegaly, jaundice, pathologic fra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UCOSE -6-PHOSPHATE DEHYDROGENASE (G6PD) ANEMI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efect in RBC metabo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oxidation of hemoglobin damages R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person exposed to stressors: aspirin, sulfonamides, Vitamin K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ations: pallor, jaundice, hemoglobinuria, elevated reticulocyte 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 quantitative assay of G6P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PLAS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marrow failure: decreased RBC, WBC, 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ow replaced with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 idiopa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cell damage from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antibiotics (chlorampheni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therapeutic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85800" y="1678680"/>
            <a:ext cx="7010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lasma consists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of a fluid part (water 91%) and a solid part 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1.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c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Proteins  :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Albumin 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4.5 - 5.5%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Globulin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1.3 -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Fibrinogen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0.2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Prothrombin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0.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Plasma complement system. Consists of approximately 20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Non‑protein nitrogenous substances :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Creati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PLAS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ations: vary with onset and severity of pan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lor, fatigue, headache, exertional dyspnea, tachycardia, heart fail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eding due to low platele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, increased infection risk due to             low W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 bone marrow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PLAS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of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marrow 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040" y="304920"/>
            <a:ext cx="51418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rose-lyseroed"/>
          <p:cNvPicPr/>
          <p:nvPr/>
        </p:nvPicPr>
        <p:blipFill>
          <a:blip r:embed="rId1"/>
          <a:stretch/>
        </p:blipFill>
        <p:spPr>
          <a:xfrm>
            <a:off x="838080" y="18288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vidan"/>
          <p:cNvPicPr/>
          <p:nvPr/>
        </p:nvPicPr>
        <p:blipFill>
          <a:blip r:embed="rId2"/>
          <a:stretch/>
        </p:blipFill>
        <p:spPr>
          <a:xfrm>
            <a:off x="1219320" y="3505320"/>
            <a:ext cx="1495440" cy="1857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laksan"/>
          <p:cNvPicPr/>
          <p:nvPr/>
        </p:nvPicPr>
        <p:blipFill>
          <a:blip r:embed="rId3"/>
          <a:stretch/>
        </p:blipFill>
        <p:spPr>
          <a:xfrm>
            <a:off x="7238880" y="3352680"/>
            <a:ext cx="13716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143000" y="1923840"/>
            <a:ext cx="64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n nitrogenous sub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ucose, Cholesterol, Gala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olipids, Triglyce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zy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ylase, Carbonic anhyd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pase, Phosphat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liru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Inorganic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l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2" descr="C:\Documents and Settings\Sultan Ayoub Meo\My Documents\My Pictures\red_blood_cells.jpg"/>
          <p:cNvPicPr/>
          <p:nvPr/>
        </p:nvPicPr>
        <p:blipFill>
          <a:blip r:embed="rId1"/>
          <a:stretch/>
        </p:blipFill>
        <p:spPr>
          <a:xfrm>
            <a:off x="1066680" y="1828800"/>
            <a:ext cx="7543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[TYPES OF CELLS]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2" descr="C:\Documents and Settings\Sultan Ayoub Meo\My Documents\My Pictures\2309_blood_450.jpg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C:\Documents and Settings\Sultan Ayoub Meo\My Documents\My Pictures\91871-034-DA6BA042.jpg"/>
          <p:cNvPicPr/>
          <p:nvPr/>
        </p:nvPicPr>
        <p:blipFill>
          <a:blip r:embed="rId1"/>
          <a:stretch/>
        </p:blipFill>
        <p:spPr>
          <a:xfrm>
            <a:off x="1219320" y="17524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3_03"/>
          <p:cNvPicPr/>
          <p:nvPr/>
        </p:nvPicPr>
        <p:blipFill>
          <a:blip r:embed="rId1"/>
          <a:srcRect l="0" t="0" r="0" b="6669"/>
          <a:stretch/>
        </p:blipFill>
        <p:spPr>
          <a:xfrm>
            <a:off x="914400" y="1738440"/>
            <a:ext cx="7772400" cy="4738680"/>
          </a:xfrm>
          <a:prstGeom prst="rect">
            <a:avLst/>
          </a:prstGeom>
          <a:ln w="0">
            <a:noFill/>
          </a:ln>
        </p:spPr>
      </p:pic>
      <p:sp>
        <p:nvSpPr>
          <p:cNvPr id="124" name="Title 33"/>
          <p:cNvSpPr/>
          <p:nvPr/>
        </p:nvSpPr>
        <p:spPr>
          <a:xfrm>
            <a:off x="838080" y="22860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23:55:09Z</dcterms:created>
  <dc:creator> </dc:creator>
  <dc:description/>
  <dc:language>en-US</dc:language>
  <cp:lastModifiedBy>Sultan Ayoub Meo</cp:lastModifiedBy>
  <dcterms:modified xsi:type="dcterms:W3CDTF">2011-10-05T06:04:06Z</dcterms:modified>
  <cp:revision>740</cp:revision>
  <dc:subject/>
  <dc:title>Vaginitis: Diagnosis approach and Treatment</dc:title>
</cp:coreProperties>
</file>