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5.xml.rels" ContentType="application/vnd.openxmlformats-package.relationships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jpeg" ContentType="image/jpeg"/>
  <Override PartName="/ppt/media/image16.gif" ContentType="image/gif"/>
  <Override PartName="/ppt/media/image14.jpeg" ContentType="image/jpeg"/>
  <Override PartName="/ppt/media/image15.gif" ContentType="image/gif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1.jpeg" ContentType="image/jpeg"/>
  <Override PartName="/ppt/media/image7.png" ContentType="image/png"/>
  <Override PartName="/ppt/media/image12.png" ContentType="image/png"/>
  <Override PartName="/ppt/media/image8.jpeg" ContentType="image/jpeg"/>
  <Override PartName="/ppt/media/image10.jpeg" ContentType="image/jpeg"/>
  <Override PartName="/ppt/media/image2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C3ADB-E409-49C2-8974-59BB011281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F4741-FDCA-4EF9-94FA-0D34D32358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2FAFA-4307-48B1-836C-7B5B9D11F1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13EA1-7988-4CDF-B0F9-79B4202427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CC389-B13E-4BDD-ADA5-9745FDC5A3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27BC8-9752-46DD-857E-063090A17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D6CF6-B68C-46DD-BA74-1C02FC8DD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27DB9-0D62-4CAE-8166-CA4114975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94ACE-1BCC-4506-A3D9-C38B37EB5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E1546-AF76-4708-8FE8-621210ED0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EBD27-6B0E-43AC-B381-D2B86F775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84AD8-788B-4BB5-960B-B9311991C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B1AAF-6A25-4DA2-92D6-E3A5044CF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33345-2038-4388-8AD9-FEBCAEEF7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5A7AE-DE1A-4B1C-93FF-F3D15F44B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80446-B130-4719-B5F7-568A50D0C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B39DD-32E0-45B5-8BB4-63CB03FF6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A5864-2D5E-4094-BC05-BFA17E6E8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54861-32CF-494B-A45E-35950BC77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B4AEE-03A1-49E2-9384-69255E045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95493-B156-458C-B49F-49E49407C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D82F9-00B2-49F1-88D5-D37C2588A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C2E5E-A4E5-4047-B7DB-5EE5F4A76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A5CD6-5394-41D3-94D9-B080085B7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A2FDA-9D53-4E51-B906-456ADD59D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851D7-DFD6-4151-AA5D-22FB71693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07A13-4B0E-4185-93C2-685BD02AC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65B49-424A-4328-B781-F7B96722B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57AAA-150D-4F48-80B6-91864B913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80000"/>
                  </a:lnSpc>
                  <a:spcBef>
                    <a:spcPts val="4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D7E8F-176D-4C9C-A549-2324BD29AFA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80000"/>
                  </a:lnSpc>
                  <a:spcBef>
                    <a:spcPts val="4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80000"/>
                  </a:lnSpc>
                  <a:spcBef>
                    <a:spcPts val="4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34856-19C6-4059-B0C9-FCF6773483B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gif"/><Relationship Id="rId3" Type="http://schemas.openxmlformats.org/officeDocument/2006/relationships/image" Target="../media/image16.gi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2"/>
          <p:cNvSpPr/>
          <p:nvPr/>
        </p:nvSpPr>
        <p:spPr>
          <a:xfrm>
            <a:off x="1066680" y="4876920"/>
            <a:ext cx="7543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ltan Ayoub Me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BBS, Ph.D, FRC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essor, Department of Physi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llege of Medicine, King Saud University, Riyad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itle 33"/>
          <p:cNvSpPr/>
          <p:nvPr/>
        </p:nvSpPr>
        <p:spPr>
          <a:xfrm>
            <a:off x="838080" y="152280"/>
            <a:ext cx="6629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0000"/>
                </a:solidFill>
                <a:latin typeface="Times New Roman"/>
              </a:rPr>
              <a:t>BLOOD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19" descr="THE BOOK copy"/>
          <p:cNvPicPr/>
          <p:nvPr/>
        </p:nvPicPr>
        <p:blipFill>
          <a:blip r:embed="rId1"/>
          <a:stretch/>
        </p:blipFill>
        <p:spPr>
          <a:xfrm>
            <a:off x="1600200" y="2057400"/>
            <a:ext cx="6324480" cy="2514600"/>
          </a:xfrm>
          <a:prstGeom prst="rect">
            <a:avLst/>
          </a:prstGeom>
          <a:ln w="88920">
            <a:solidFill>
              <a:srgbClr val="660066"/>
            </a:solidFill>
            <a:miter/>
          </a:ln>
        </p:spPr>
      </p:pic>
      <p:pic>
        <p:nvPicPr>
          <p:cNvPr id="107" name="Picture 20" descr="sa-flag1"/>
          <p:cNvPicPr/>
          <p:nvPr/>
        </p:nvPicPr>
        <p:blipFill>
          <a:blip r:embed="rId2"/>
          <a:stretch/>
        </p:blipFill>
        <p:spPr>
          <a:xfrm>
            <a:off x="3581280" y="2057400"/>
            <a:ext cx="609840" cy="3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0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0000"/>
                </a:solidFill>
                <a:latin typeface="Times New Roman"/>
              </a:rPr>
              <a:t>BLOOD CELL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26" name="Picture 2" descr="C:\Documents and Settings\Sultan Ayoub Meo\My Documents\My Pictures\CE087600FG0010.gif"/>
          <p:cNvPicPr/>
          <p:nvPr/>
        </p:nvPicPr>
        <p:blipFill>
          <a:blip r:embed="rId1"/>
          <a:stretch/>
        </p:blipFill>
        <p:spPr>
          <a:xfrm>
            <a:off x="990720" y="1752480"/>
            <a:ext cx="777240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10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0000"/>
                </a:solidFill>
                <a:latin typeface="Times New Roman"/>
              </a:rPr>
              <a:t>WBC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28" name="Picture 2" descr="C:\Documents and Settings\Sultan Ayoub Meo\My Documents\My Pictures\WBCs.jpg"/>
          <p:cNvPicPr/>
          <p:nvPr/>
        </p:nvPicPr>
        <p:blipFill>
          <a:blip r:embed="rId1"/>
          <a:stretch/>
        </p:blipFill>
        <p:spPr>
          <a:xfrm>
            <a:off x="1219320" y="1752480"/>
            <a:ext cx="739116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0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0000"/>
                </a:solidFill>
                <a:latin typeface="Times New Roman"/>
              </a:rPr>
              <a:t>BLOOD CELL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30" name="Picture 2" descr="C:\Documents and Settings\Sultan Ayoub Meo\My Documents\My Pictures\image.png"/>
          <p:cNvPicPr/>
          <p:nvPr/>
        </p:nvPicPr>
        <p:blipFill>
          <a:blip r:embed="rId1"/>
          <a:stretch/>
        </p:blipFill>
        <p:spPr>
          <a:xfrm>
            <a:off x="990720" y="1676520"/>
            <a:ext cx="74674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0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0000"/>
                </a:solidFill>
                <a:latin typeface="Times New Roman"/>
              </a:rPr>
              <a:t>BLOOD CELL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32" name="Picture 1" descr="C:\Documents and Settings\Sultan Ayoub Meo\My Documents\My Pictures\CDR0000526538.jpg"/>
          <p:cNvPicPr/>
          <p:nvPr/>
        </p:nvPicPr>
        <p:blipFill>
          <a:blip r:embed="rId1"/>
          <a:stretch/>
        </p:blipFill>
        <p:spPr>
          <a:xfrm>
            <a:off x="990720" y="1676520"/>
            <a:ext cx="77724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0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0000"/>
                </a:solidFill>
                <a:latin typeface="Times New Roman"/>
              </a:rPr>
              <a:t>FUNCTIONS OF BLOOD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4" name="Rectangle 1"/>
          <p:cNvSpPr/>
          <p:nvPr/>
        </p:nvSpPr>
        <p:spPr>
          <a:xfrm>
            <a:off x="914400" y="1682640"/>
            <a:ext cx="6934320" cy="444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Trans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Oxy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arbon diox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Nutri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Horm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Waste produ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Reg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empera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Prot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Blood loss via clotting mechani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mmunity / Defence mechani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0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0000"/>
                </a:solidFill>
                <a:latin typeface="Times New Roman"/>
              </a:rPr>
              <a:t>RBC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6" name="Rectangle 1"/>
          <p:cNvSpPr/>
          <p:nvPr/>
        </p:nvSpPr>
        <p:spPr>
          <a:xfrm>
            <a:off x="990720" y="1540440"/>
            <a:ext cx="6933960" cy="43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roduction of RB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RBCs  are produced in  different sites of the body during different  stages which are described below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1st Trimester(First 3 months of pregnanc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RBCs  are produced from fetal life. During the first  trimester of pregnancy, RBCs are produced in the yolk sac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2nd Trimester (3-6 months of pregnancy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uring the 2nd trimester of pregnancy, RBCs are produced  mostly in the liver and in the spleen and lymph nod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0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0000"/>
                </a:solidFill>
                <a:latin typeface="Times New Roman"/>
              </a:rPr>
              <a:t>RBC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8" name="Rectangle 1"/>
          <p:cNvSpPr/>
          <p:nvPr/>
        </p:nvSpPr>
        <p:spPr>
          <a:xfrm>
            <a:off x="914400" y="1693800"/>
            <a:ext cx="8229600" cy="49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3rd Trimester (6-9 months of pregnanc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uring the last trimester  of pregnancy and after birth, they are produced from bone marro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Bone marrow of all bones produces red blood cells up to the  age  of 5 year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ever, after the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ge of 20, th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ne marrow of  long bones does not produce RBCs due to the deposition  of fatty cells with the exception of the proximal portion of the humerus  and tib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fter  25 years, RBCs are mostly produced in the marrow of membranous bones such the sternum,  ribs, vertebrae and  iliu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0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0000"/>
                </a:solidFill>
                <a:latin typeface="Times New Roman"/>
              </a:rPr>
              <a:t>RBC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40" name="Picture 2" descr="C:\Documents and Settings\Sultan Ayoub Meo\My Documents\My Pictures\12664.jpg"/>
          <p:cNvPicPr/>
          <p:nvPr/>
        </p:nvPicPr>
        <p:blipFill>
          <a:blip r:embed="rId1"/>
          <a:stretch/>
        </p:blipFill>
        <p:spPr>
          <a:xfrm>
            <a:off x="990720" y="1676520"/>
            <a:ext cx="7467480" cy="45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0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0000"/>
                </a:solidFill>
                <a:latin typeface="Times New Roman"/>
              </a:rPr>
              <a:t>DEVELOPMENT OF RBC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2" name="Rectangle 1"/>
          <p:cNvSpPr/>
          <p:nvPr/>
        </p:nvSpPr>
        <p:spPr>
          <a:xfrm>
            <a:off x="914400" y="1847880"/>
            <a:ext cx="7467480" cy="43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evelopment of RB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Hemocytobla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90000"/>
              <a:buFont typeface="Arial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ell size is large 20 ‑ 25 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90000"/>
              <a:buFont typeface="Arial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Nucleus is lar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90000"/>
              <a:buFont typeface="Arial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Less  cytoplas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90000"/>
              <a:buFont typeface="Arial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itosis pres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Proerythrobla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90000"/>
              <a:buFont typeface="Arial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ell size  decreased 15 ‑ 17 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90000"/>
              <a:buFont typeface="Arial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Hemoglobin synthesis start from this sta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Basophilic erythrobla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90000"/>
              <a:buFont typeface="Arial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ell size  further decreased 12 ‑ 15 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90000"/>
              <a:buFont typeface="Arial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Nucleus condens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90000"/>
              <a:buFont typeface="Arial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itosis pres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90000"/>
              <a:buFont typeface="Arial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Nucleoli rudimentary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0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0000"/>
                </a:solidFill>
                <a:latin typeface="Times New Roman"/>
              </a:rPr>
              <a:t>DEVELOPMENT OF RBC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4" name="Rectangle 1"/>
          <p:cNvSpPr/>
          <p:nvPr/>
        </p:nvSpPr>
        <p:spPr>
          <a:xfrm>
            <a:off x="914400" y="1846800"/>
            <a:ext cx="632448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olychromatophilic erythrobla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90000"/>
              <a:buFont typeface="Arial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ell size further decreased 10 ‑ 12 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90000"/>
              <a:buFont typeface="Arial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Nucleus condens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90000"/>
              <a:buFont typeface="Arial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itosis  abs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Orthochromatic erythrobla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90000"/>
              <a:buFont typeface="Arial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ell size  decreased to  8‑10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90000"/>
              <a:buFont typeface="Arial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Nucleus more condens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Reticulocy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90000"/>
              <a:buFont typeface="Arial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Nucleus and mitochondria are condensed and start disappear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90000"/>
              <a:buFont typeface="Arial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ell size normal, 7‑8 m in diamet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ature  RBC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0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0000"/>
                </a:solidFill>
                <a:latin typeface="Times New Roman"/>
              </a:rPr>
              <a:t>BLOOD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Rectangle 1"/>
          <p:cNvSpPr/>
          <p:nvPr/>
        </p:nvSpPr>
        <p:spPr>
          <a:xfrm>
            <a:off x="914400" y="1697040"/>
            <a:ext cx="46324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lood is a specialized type of connective tissue. It is mesodermal in origin and is made up of two parts,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cellular part (formed elements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00b050"/>
                </a:solidFill>
                <a:latin typeface="Arial"/>
                <a:ea typeface="Times New Roman"/>
              </a:rPr>
              <a:t>non cellular part (plasm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2" descr="C:\Documents and Settings\Sultan Ayoub Meo\My Documents\My Pictures\91871-034-DA6BA042.jpg"/>
          <p:cNvPicPr/>
          <p:nvPr/>
        </p:nvPicPr>
        <p:blipFill>
          <a:blip r:embed="rId1"/>
          <a:stretch/>
        </p:blipFill>
        <p:spPr>
          <a:xfrm>
            <a:off x="5791320" y="1752480"/>
            <a:ext cx="304776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10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0000"/>
                </a:solidFill>
                <a:latin typeface="Times New Roman"/>
              </a:rPr>
              <a:t>RBCS / WBC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1295280" y="1752480"/>
          <a:ext cx="7239240" cy="3962520"/>
        </p:xfrm>
        <a:graphic>
          <a:graphicData uri="http://schemas.openxmlformats.org/drawingml/2006/table">
            <a:tbl>
              <a:tblPr/>
              <a:tblGrid>
                <a:gridCol w="3800520"/>
                <a:gridCol w="3438720"/>
              </a:tblGrid>
              <a:tr h="4953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BC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BC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9536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90000"/>
                        <a:buFont typeface="Arial"/>
                        <a:buAutoNum type="romanL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ucleat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90000"/>
                        <a:buFont typeface="Arial"/>
                        <a:buAutoNum type="romanL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n nucleat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536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90000"/>
                        <a:buFont typeface="Arial"/>
                        <a:buAutoNum type="romanL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arge siz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90000"/>
                        <a:buFont typeface="Arial"/>
                        <a:buAutoNum type="romanL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mall in 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536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90000"/>
                        <a:buFont typeface="Arial"/>
                        <a:buAutoNum type="romanL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tains no hemoglob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90000"/>
                        <a:buFont typeface="Arial"/>
                        <a:buAutoNum type="romanL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tains hemoglob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536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90000"/>
                        <a:buFont typeface="Arial"/>
                        <a:buAutoNum type="romanL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ess count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90000"/>
                        <a:buFont typeface="Arial"/>
                        <a:buAutoNum type="romanL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re cou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500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90000"/>
                        <a:buFont typeface="Arial"/>
                        <a:buAutoNum type="romanL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verage life span is shor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90000"/>
                        <a:buFont typeface="Arial"/>
                        <a:buAutoNum type="romanL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ife span is l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536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90000"/>
                        <a:buFont typeface="Arial"/>
                        <a:buAutoNum type="romanL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o not form bile pigmen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90000"/>
                        <a:buFont typeface="Arial"/>
                        <a:buAutoNum type="romanL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orm bile pigmen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536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90000"/>
                        <a:buFont typeface="Arial"/>
                        <a:buAutoNum type="romanL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fensive functio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90000"/>
                        <a:buFont typeface="Arial"/>
                        <a:buAutoNum type="romanL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uffering fun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0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0000"/>
                </a:solidFill>
                <a:latin typeface="Times New Roman"/>
              </a:rPr>
              <a:t>HEMOGLOBIN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8" name="Rectangle 1"/>
          <p:cNvSpPr/>
          <p:nvPr/>
        </p:nvSpPr>
        <p:spPr>
          <a:xfrm>
            <a:off x="609480" y="1623600"/>
            <a:ext cx="82296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ition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moglobin is a red, oxygen carrying pigment present in RBCs. It is a chromoprotein consisting of heme (4%) and globin (96%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antity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tal  hemoglobin in the  body is 700-900 g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RBC has 29 peco grams of H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 RBCs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les   = 36gm /100 m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males = 34gm/ 100 m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blood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les = 14 ‑ 16 g/100 ml;  Females =  12 ‑ 14 g/100 ml:  In fetus  and new born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gm/100 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1" descr="C:\Documents and Settings\Sultan Ayoub Meo\My Documents\My Pictures\0143.gif"/>
          <p:cNvPicPr/>
          <p:nvPr/>
        </p:nvPicPr>
        <p:blipFill>
          <a:blip r:embed="rId1"/>
          <a:stretch/>
        </p:blipFill>
        <p:spPr>
          <a:xfrm>
            <a:off x="6858000" y="0"/>
            <a:ext cx="228600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0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0000"/>
                </a:solidFill>
                <a:latin typeface="Times New Roman"/>
              </a:rPr>
              <a:t>HEMOGLOBIN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51" name="Picture 1" descr="C:\Documents and Settings\Sultan Ayoub Meo\My Documents\My Pictures\0143.gif"/>
          <p:cNvPicPr/>
          <p:nvPr/>
        </p:nvPicPr>
        <p:blipFill>
          <a:blip r:embed="rId1"/>
          <a:stretch/>
        </p:blipFill>
        <p:spPr>
          <a:xfrm>
            <a:off x="914400" y="1905120"/>
            <a:ext cx="739152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0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0000"/>
                </a:solidFill>
                <a:latin typeface="Times New Roman"/>
              </a:rPr>
              <a:t>HEMOGLOBIN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53" name="Picture 1" descr="C:\Documents and Settings\Sultan Ayoub Meo\My Documents\My Pictures\hemoglobin-picture.jpg"/>
          <p:cNvPicPr/>
          <p:nvPr/>
        </p:nvPicPr>
        <p:blipFill>
          <a:blip r:embed="rId1"/>
          <a:stretch/>
        </p:blipFill>
        <p:spPr>
          <a:xfrm>
            <a:off x="1143000" y="1905120"/>
            <a:ext cx="75438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0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0000"/>
                </a:solidFill>
                <a:latin typeface="Times New Roman"/>
              </a:rPr>
              <a:t>HEMOGLOBIN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5" name="Rectangle 1"/>
          <p:cNvSpPr/>
          <p:nvPr/>
        </p:nvSpPr>
        <p:spPr>
          <a:xfrm>
            <a:off x="914400" y="1620720"/>
            <a:ext cx="7696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y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emoglobin is  of two types adult hemoglobin Hb A and Fetal hemoglobin Hb F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Adult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= Hb A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= 2 alpha and 2 beta cha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= Hb A2 = 2.5% = 2 alpha a and  2delta cha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FETAL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= Hb  F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=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 alph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d 2 gama cha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0000"/>
                </a:solidFill>
                <a:latin typeface="Times New Roman"/>
              </a:rPr>
              <a:t>ANEMIA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emia may be defined as the decreased  percentage of Hb in the blood below the reference level for the age and sex of the individu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lassifica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.     Blood loss Anemi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cute post hemorrhagic anemi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u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rg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hronic hemorrhagic anemi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ptic ulc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asitic (hookworm)  infes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ligna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leeding disor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0000"/>
                </a:solidFill>
                <a:latin typeface="Times New Roman"/>
              </a:rPr>
              <a:t>ANEMIA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       Increase rate of destruction of RBC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Hemolytic Anemi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   Impaired red cell produc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1. Disturbance of proliferation and  differentiation of stem cells.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. Aplastic Anem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. Pure red blood cell aplas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.  Anemia due to renal fail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  Anemia due to endocrine disord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0000"/>
                </a:solidFill>
                <a:latin typeface="Times New Roman"/>
              </a:rPr>
              <a:t>ANEMIA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99"/>
              </a:spcBef>
              <a:buClr>
                <a:srgbClr val="b2b2b2"/>
              </a:buClr>
              <a:buSzPct val="90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istrubance of proliferation and maturation of RBCs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. Defective DNA synthesi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ciency or impaired utiliz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 vitamin B12 and folic aci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Megaloblastic anemi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. Defective Hb synthesi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cient heme synthes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Iron deficiency anemi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cient globin synthes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Thalassemi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:. Abnormal form of Hb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ckle cell anemi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0000"/>
                </a:solidFill>
                <a:latin typeface="Times New Roman"/>
              </a:rPr>
              <a:t>PATHOPHYSIOLOGY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reased RBC pro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ron deficienc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lic acid defici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lastic anem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ed RBC loss or destruc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ckle cell anem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ood lo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0000"/>
                </a:solidFill>
                <a:latin typeface="Times New Roman"/>
              </a:rPr>
              <a:t>IRON DEFICIENCY ANEMIA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761760" y="1752120"/>
            <a:ext cx="8001000" cy="4800600"/>
          </a:xfrm>
          <a:prstGeom prst="rect">
            <a:avLst/>
          </a:prstGeom>
          <a:noFill/>
          <a:ln w="9360">
            <a:solidFill>
              <a:srgbClr val="990033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u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adequate dietary iron int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labsorption: Gastrectomy, chronic diarrhea, celiac spr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ed iron needs: pregnancy and lac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ronic occult blood loss: bleeding ulcers, GI inflammation, hemorrhoids, cancer, chronic hemoglobinu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nstrual blood lo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0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0000"/>
                </a:solidFill>
                <a:latin typeface="Times New Roman"/>
              </a:rPr>
              <a:t>BLOOD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Rectangle 1"/>
          <p:cNvSpPr/>
          <p:nvPr/>
        </p:nvSpPr>
        <p:spPr>
          <a:xfrm>
            <a:off x="838080" y="1695600"/>
            <a:ext cx="8001000" cy="43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Cellular part ( formed elements ): 45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.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RBCs, ( Red blood cells) or erythrocy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i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WBCs, ( white blood cells ) o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leukocy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. Granular leukocytes ( granulocytes 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buClr>
                <a:srgbClr val="000000"/>
              </a:buClr>
              <a:buSzPct val="90000"/>
              <a:buFont typeface="Arial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Neutrophi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buClr>
                <a:srgbClr val="000000"/>
              </a:buClr>
              <a:buSzPct val="90000"/>
              <a:buFont typeface="Arial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osinophi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buClr>
                <a:srgbClr val="000000"/>
              </a:buClr>
              <a:buSzPct val="90000"/>
              <a:buFont typeface="Arial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Basophi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b. Agranular leukocytes (agranulocyte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buClr>
                <a:srgbClr val="000000"/>
              </a:buClr>
              <a:buSzPct val="90000"/>
              <a:buFont typeface="Arial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Lymphocy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buClr>
                <a:srgbClr val="000000"/>
              </a:buClr>
              <a:buSzPct val="90000"/>
              <a:buFont typeface="Arial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onocy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ii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latelets (thromboc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Non‑cellular part of blood ( plasma ): 55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IRON DEFICIENCY ANEMIA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agnostic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ron lev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iron-binding capacity (TIB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rum Ferrit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dic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ron supplements, oral or parente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t. 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VIT. B12 DEFICIENCY ANEMIA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u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nicious anemia:  lack of intrinsic facto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eal resections, loss of pancreatic secretions, chronic gastrit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ict vegetari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agnostic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illing t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dic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t. B12 parente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FOLIC ACID DEFICIENCY ANEMIA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37720" y="17521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adequate intak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ronically malnouri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lder ad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cohol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ug addicted pers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ed ne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gnant women: neural tube defects in fet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sons experiencing rapid grow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labsorption disorders: Celiac spr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sons taking methotrexate and other chemotherap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SICKLE CELL ANEMIA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thophysiolog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tosomal recessive genetic def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poxemia:  abnormal HbS deoxygen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scent or sickle shape RB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ckled cells clump togeth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akened RBCs, hemolyz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rtened RBC life sp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SICKLE CELL ANEMIA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ckle cell crises arise fro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pox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w environmental or body temper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cessive exerci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esthes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hyd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ido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SICKLE CELL CRISES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ifest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llor, fatigue, jaundice, irrit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inful swelling hands and feet, large joints, priapism, abdominal pain, stro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lastic anem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ood pools in liver and sple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agnostics: Sickle cell 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INTERVENTIONS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914040" y="2057400"/>
            <a:ext cx="380988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33"/>
                </a:solidFill>
                <a:latin typeface="Arial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d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33"/>
                </a:solidFill>
                <a:latin typeface="Arial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y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33"/>
                </a:solidFill>
                <a:latin typeface="Arial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33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in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eat precipitating fac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lic acid sup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ood transfu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tic counse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ACQUIRED HEMOLYTIC ANEMIA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us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chanical trauma to RBC: prosthetic heart val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immune disor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cterial or protozoan inf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mune system-mediated respons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ugs, toxins, chemical agents, veno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ifest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emi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lenomegaly, jaundice, pathologic frac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GLUCOSE -6-PHOSPHATE DEHYDROGENASE (G6PD) ANEMIA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ditary defect in RBC metabolis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 oxidation of hemoglobin damages RB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ccurs when person exposed to stressors: aspirin, sulfonamides, Vitamin K deriva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ifestations: pallor, jaundice, hemoglobinuria, elevated reticulocyte cou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agnostics: quantitative assay of G6P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APLASTIC ANEMIA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ne marrow failure: decreased RBC, WBC, platel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row replaced with f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uses: idiopath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ral inf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m cell damage from radi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osure to chemic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tain antibiotics (chloramphenico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motherapeutic dru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0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0000"/>
                </a:solidFill>
                <a:latin typeface="Times New Roman"/>
              </a:rPr>
              <a:t>BLOOD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Rectangle 1"/>
          <p:cNvSpPr/>
          <p:nvPr/>
        </p:nvSpPr>
        <p:spPr>
          <a:xfrm>
            <a:off x="685800" y="1678680"/>
            <a:ext cx="7010280" cy="48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33"/>
                </a:solidFill>
                <a:latin typeface="Arial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Plasma consists </a:t>
            </a:r>
            <a:r>
              <a:rPr b="0" lang="en-US" sz="2000" spc="-1" strike="noStrike">
                <a:solidFill>
                  <a:srgbClr val="330033"/>
                </a:solidFill>
                <a:latin typeface="Arial"/>
                <a:ea typeface="Times New Roman"/>
              </a:rPr>
              <a:t>of a fluid part (water 91%) and a solid part  9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0033"/>
                </a:solidFill>
                <a:latin typeface="Arial"/>
                <a:ea typeface="Times New Roman"/>
              </a:rPr>
              <a:t>1. 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Organic substa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0033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  <a:ea typeface="Times New Roman"/>
              </a:rPr>
              <a:t>Proteins  :  7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buClr>
                <a:srgbClr val="330033"/>
              </a:buClr>
              <a:buSzPct val="90000"/>
              <a:buFont typeface="Arial"/>
              <a:buChar char="•"/>
              <a:tabLst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33"/>
                </a:solidFill>
                <a:latin typeface="Arial"/>
                <a:ea typeface="Times New Roman"/>
              </a:rPr>
              <a:t>Albumin   </a:t>
            </a:r>
            <a:r>
              <a:rPr b="0" lang="en-US" sz="2000" spc="-1" strike="noStrike">
                <a:solidFill>
                  <a:srgbClr val="330033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330033"/>
                </a:solidFill>
                <a:latin typeface="Arial"/>
                <a:ea typeface="Times New Roman"/>
              </a:rPr>
              <a:t>: </a:t>
            </a:r>
            <a:r>
              <a:rPr b="0" lang="en-US" sz="2000" spc="-1" strike="noStrike">
                <a:solidFill>
                  <a:srgbClr val="330033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330033"/>
                </a:solidFill>
                <a:latin typeface="Arial"/>
                <a:ea typeface="Times New Roman"/>
              </a:rPr>
              <a:t>4.5 - 5.5%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buClr>
                <a:srgbClr val="330033"/>
              </a:buClr>
              <a:buSzPct val="90000"/>
              <a:buFont typeface="Arial"/>
              <a:buChar char="•"/>
              <a:tabLst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33"/>
                </a:solidFill>
                <a:latin typeface="Arial"/>
                <a:ea typeface="Times New Roman"/>
              </a:rPr>
              <a:t>Globulin  </a:t>
            </a:r>
            <a:r>
              <a:rPr b="0" lang="en-US" sz="2000" spc="-1" strike="noStrike">
                <a:solidFill>
                  <a:srgbClr val="330033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330033"/>
                </a:solidFill>
                <a:latin typeface="Arial"/>
                <a:ea typeface="Times New Roman"/>
              </a:rPr>
              <a:t>: </a:t>
            </a:r>
            <a:r>
              <a:rPr b="0" lang="en-US" sz="2000" spc="-1" strike="noStrike">
                <a:solidFill>
                  <a:srgbClr val="330033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330033"/>
                </a:solidFill>
                <a:latin typeface="Arial"/>
                <a:ea typeface="Times New Roman"/>
              </a:rPr>
              <a:t>1.3 - 2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buClr>
                <a:srgbClr val="330033"/>
              </a:buClr>
              <a:buSzPct val="90000"/>
              <a:buFont typeface="Arial"/>
              <a:buChar char="•"/>
              <a:tabLst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33"/>
                </a:solidFill>
                <a:latin typeface="Arial"/>
                <a:ea typeface="Times New Roman"/>
              </a:rPr>
              <a:t>Fibrinogen</a:t>
            </a:r>
            <a:r>
              <a:rPr b="0" lang="en-US" sz="2000" spc="-1" strike="noStrike">
                <a:solidFill>
                  <a:srgbClr val="330033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330033"/>
                </a:solidFill>
                <a:latin typeface="Arial"/>
                <a:ea typeface="Times New Roman"/>
              </a:rPr>
              <a:t>:  </a:t>
            </a:r>
            <a:r>
              <a:rPr b="0" lang="en-US" sz="2000" spc="-1" strike="noStrike">
                <a:solidFill>
                  <a:srgbClr val="330033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330033"/>
                </a:solidFill>
                <a:latin typeface="Arial"/>
                <a:ea typeface="Times New Roman"/>
              </a:rPr>
              <a:t>0.2%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buClr>
                <a:srgbClr val="330033"/>
              </a:buClr>
              <a:buSzPct val="90000"/>
              <a:buFont typeface="Arial"/>
              <a:buChar char="•"/>
              <a:tabLst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33"/>
                </a:solidFill>
                <a:latin typeface="Arial"/>
                <a:ea typeface="Times New Roman"/>
              </a:rPr>
              <a:t>Prothrombin</a:t>
            </a:r>
            <a:r>
              <a:rPr b="0" lang="en-US" sz="2000" spc="-1" strike="noStrike">
                <a:solidFill>
                  <a:srgbClr val="330033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330033"/>
                </a:solidFill>
                <a:latin typeface="Arial"/>
                <a:ea typeface="Times New Roman"/>
              </a:rPr>
              <a:t>: </a:t>
            </a:r>
            <a:r>
              <a:rPr b="0" lang="en-US" sz="2000" spc="-1" strike="noStrike">
                <a:solidFill>
                  <a:srgbClr val="330033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330033"/>
                </a:solidFill>
                <a:latin typeface="Arial"/>
                <a:ea typeface="Times New Roman"/>
              </a:rPr>
              <a:t>0.1 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buClr>
                <a:srgbClr val="330033"/>
              </a:buClr>
              <a:buSzPct val="90000"/>
              <a:buFont typeface="Arial"/>
              <a:buChar char="•"/>
              <a:tabLst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33"/>
                </a:solidFill>
                <a:latin typeface="Arial"/>
                <a:ea typeface="Times New Roman"/>
              </a:rPr>
              <a:t>Plasma complement system. Consists of approximately 20 protei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33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  <a:ea typeface="Times New Roman"/>
              </a:rPr>
              <a:t>Non‑protein nitrogenous substances : 3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buClr>
                <a:srgbClr val="330033"/>
              </a:buClr>
              <a:buSzPct val="90000"/>
              <a:buFont typeface="Arial"/>
              <a:buChar char="•"/>
              <a:tabLst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33"/>
                </a:solidFill>
                <a:latin typeface="Arial"/>
                <a:ea typeface="Times New Roman"/>
              </a:rPr>
              <a:t>U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buClr>
                <a:srgbClr val="330033"/>
              </a:buClr>
              <a:buSzPct val="90000"/>
              <a:buFont typeface="Arial"/>
              <a:buChar char="•"/>
              <a:tabLst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33"/>
                </a:solidFill>
                <a:latin typeface="Arial"/>
                <a:ea typeface="Times New Roman"/>
              </a:rPr>
              <a:t>Uric ac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buClr>
                <a:srgbClr val="330033"/>
              </a:buClr>
              <a:buSzPct val="90000"/>
              <a:buFont typeface="Arial"/>
              <a:buChar char="•"/>
              <a:tabLst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33"/>
                </a:solidFill>
                <a:latin typeface="Arial"/>
                <a:ea typeface="Times New Roman"/>
              </a:rPr>
              <a:t>Creatin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buClr>
                <a:srgbClr val="330033"/>
              </a:buClr>
              <a:buSzPct val="90000"/>
              <a:buFont typeface="Arial"/>
              <a:buChar char="•"/>
              <a:tabLst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33"/>
                </a:solidFill>
                <a:latin typeface="Arial"/>
                <a:ea typeface="Times New Roman"/>
              </a:rPr>
              <a:t>Amino aci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buClr>
                <a:srgbClr val="330033"/>
              </a:buClr>
              <a:buSzPct val="90000"/>
              <a:buFont typeface="Arial"/>
              <a:buChar char="•"/>
              <a:tabLst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33"/>
                </a:solidFill>
                <a:latin typeface="Arial"/>
                <a:ea typeface="Times New Roman"/>
              </a:rPr>
              <a:t>Ammon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APLASTIC ANEMIA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ifestations: vary with onset and severity of pancytopen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llor, fatigue, headache, exertional dyspnea, tachycardia, heart fail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eding due to low platelet lev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ver, increased infection risk due to             low WB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agnostics: bone marrow ex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APLASTIC ANEMIA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Interven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al of causative ag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ood transfu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ne marrow transpl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2057040" y="304920"/>
            <a:ext cx="5141880" cy="95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HANK YOU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3" descr="rose-lyseroed"/>
          <p:cNvPicPr/>
          <p:nvPr/>
        </p:nvPicPr>
        <p:blipFill>
          <a:blip r:embed="rId1"/>
          <a:stretch/>
        </p:blipFill>
        <p:spPr>
          <a:xfrm>
            <a:off x="838080" y="1828800"/>
            <a:ext cx="7772400" cy="45720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4" descr="hvidan"/>
          <p:cNvPicPr/>
          <p:nvPr/>
        </p:nvPicPr>
        <p:blipFill>
          <a:blip r:embed="rId2"/>
          <a:stretch/>
        </p:blipFill>
        <p:spPr>
          <a:xfrm>
            <a:off x="1219320" y="3505320"/>
            <a:ext cx="1495440" cy="185724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5" descr="laksan"/>
          <p:cNvPicPr/>
          <p:nvPr/>
        </p:nvPicPr>
        <p:blipFill>
          <a:blip r:embed="rId3"/>
          <a:stretch/>
        </p:blipFill>
        <p:spPr>
          <a:xfrm>
            <a:off x="7238880" y="3352680"/>
            <a:ext cx="1371600" cy="18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0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0000"/>
                </a:solidFill>
                <a:latin typeface="Times New Roman"/>
              </a:rPr>
              <a:t>BLOOD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" name="Rectangle 1"/>
          <p:cNvSpPr/>
          <p:nvPr/>
        </p:nvSpPr>
        <p:spPr>
          <a:xfrm>
            <a:off x="1143000" y="1923840"/>
            <a:ext cx="64771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Non nitrogenous substanc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buClr>
                <a:srgbClr val="000000"/>
              </a:buClr>
              <a:buSzPct val="90000"/>
              <a:buFont typeface="Arial"/>
              <a:buChar char="•"/>
              <a:tabLst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Glucose, Cholesterol, Galacto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buClr>
                <a:srgbClr val="000000"/>
              </a:buClr>
              <a:buSzPct val="90000"/>
              <a:buFont typeface="Arial"/>
              <a:buChar char="•"/>
              <a:tabLst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hospholipids, Triglycer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nzym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buClr>
                <a:srgbClr val="000000"/>
              </a:buClr>
              <a:buSzPct val="90000"/>
              <a:buFont typeface="Arial"/>
              <a:buChar char="•"/>
              <a:tabLst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mylase, Carbonic anhydr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buClr>
                <a:srgbClr val="000000"/>
              </a:buClr>
              <a:buSzPct val="90000"/>
              <a:buFont typeface="Arial"/>
              <a:buChar char="•"/>
              <a:tabLst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Lipase, Phosphat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igments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Bilirub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2.  Inorganic substa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buClr>
                <a:srgbClr val="000000"/>
              </a:buClr>
              <a:buSzPct val="90000"/>
              <a:buFont typeface="Arial"/>
              <a:buChar char="•"/>
              <a:tabLst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lectroly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0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0000"/>
                </a:solidFill>
                <a:latin typeface="Times New Roman"/>
              </a:rPr>
              <a:t>BLOOD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18" name="Picture 2" descr="C:\Documents and Settings\Sultan Ayoub Meo\My Documents\My Pictures\red_blood_cells.jpg"/>
          <p:cNvPicPr/>
          <p:nvPr/>
        </p:nvPicPr>
        <p:blipFill>
          <a:blip r:embed="rId1"/>
          <a:stretch/>
        </p:blipFill>
        <p:spPr>
          <a:xfrm>
            <a:off x="1066680" y="1828800"/>
            <a:ext cx="754380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0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0000"/>
                </a:solidFill>
                <a:latin typeface="Times New Roman"/>
              </a:rPr>
              <a:t>BLOOD [TYPES OF CELLS]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20" name="Picture 2" descr="C:\Documents and Settings\Sultan Ayoub Meo\My Documents\My Pictures\2309_blood_450.jpg"/>
          <p:cNvPicPr/>
          <p:nvPr/>
        </p:nvPicPr>
        <p:blipFill>
          <a:blip r:embed="rId1"/>
          <a:stretch/>
        </p:blipFill>
        <p:spPr>
          <a:xfrm>
            <a:off x="990720" y="1600200"/>
            <a:ext cx="739116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0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0000"/>
                </a:solidFill>
                <a:latin typeface="Times New Roman"/>
              </a:rPr>
              <a:t>BLOOD CELL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22" name="Picture 2" descr="C:\Documents and Settings\Sultan Ayoub Meo\My Documents\My Pictures\91871-034-DA6BA042.jpg"/>
          <p:cNvPicPr/>
          <p:nvPr/>
        </p:nvPicPr>
        <p:blipFill>
          <a:blip r:embed="rId1"/>
          <a:stretch/>
        </p:blipFill>
        <p:spPr>
          <a:xfrm>
            <a:off x="1219320" y="1752480"/>
            <a:ext cx="723888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5" descr="13_03"/>
          <p:cNvPicPr/>
          <p:nvPr/>
        </p:nvPicPr>
        <p:blipFill>
          <a:blip r:embed="rId1"/>
          <a:srcRect l="0" t="0" r="0" b="6669"/>
          <a:stretch/>
        </p:blipFill>
        <p:spPr>
          <a:xfrm>
            <a:off x="914400" y="1738440"/>
            <a:ext cx="7772400" cy="4738680"/>
          </a:xfrm>
          <a:prstGeom prst="rect">
            <a:avLst/>
          </a:prstGeom>
          <a:ln w="0">
            <a:noFill/>
          </a:ln>
        </p:spPr>
      </p:pic>
      <p:sp>
        <p:nvSpPr>
          <p:cNvPr id="124" name="Title 33"/>
          <p:cNvSpPr/>
          <p:nvPr/>
        </p:nvSpPr>
        <p:spPr>
          <a:xfrm>
            <a:off x="838080" y="228600"/>
            <a:ext cx="769644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BLOOD CEL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6T23:55:09Z</dcterms:created>
  <dc:creator> </dc:creator>
  <dc:description/>
  <dc:language>en-US</dc:language>
  <cp:lastModifiedBy>Sultan Ayoub Meo</cp:lastModifiedBy>
  <dcterms:modified xsi:type="dcterms:W3CDTF">2011-10-05T06:04:06Z</dcterms:modified>
  <cp:revision>740</cp:revision>
  <dc:subject/>
  <dc:title>Vaginitis: Diagnosis approach and Treatment</dc:title>
</cp:coreProperties>
</file>