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5EF3-8186-442A-97DB-3387E9A4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6E8-66A7-4B6B-8036-6DB86E9C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2D0E-A8A2-4A13-A1A7-CA3FFFA2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6A6-12F8-4304-99DA-B459E58C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3EDF-9DC6-4820-A758-D882BF95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417-BD4E-446A-8D3F-44EBE5C6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4DF-F132-4B07-BB43-C31904AF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07A-D786-4405-8BF8-A540FEAF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0262-9352-4DA3-9635-1BFADDD4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9FC-F31F-498E-98B9-6F3303F9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677-6C96-416F-95E6-B1977C6D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C265-88D5-49DC-BC30-69F6AD04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753AA-9061-4FF1-B0A2-4B3E0FB1702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FA162-F5E8-46E6-8611-3CBDF60CCB6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4:31:48Z</dcterms:created>
  <dc:creator>최봉수</dc:creator>
  <dc:description/>
  <dc:language>en-US</dc:language>
  <cp:lastModifiedBy>맛있다 군만두</cp:lastModifiedBy>
  <dcterms:modified xsi:type="dcterms:W3CDTF">2024-09-24T08:17:08Z</dcterms:modified>
  <cp:revision>3</cp:revision>
  <dc:subject/>
  <dc:title>슬라이드 1</dc:title>
</cp:coreProperties>
</file>