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993C-C62A-47F9-9C75-7E1D5D51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DE8-F532-4C04-8C93-47D0654E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16A2-354E-4985-841C-FFF72792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E22-886F-4029-A85A-BCCCE04A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AEAC-9AA2-4AAE-9187-F12F4289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9708-238D-464B-AC85-60C2C9C7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56D-B301-4150-8EBA-9E96F730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789-CC5F-46C4-95E3-9AB84B74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2A3-D60D-44B0-895B-86C6D37E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DF4-84A2-43D0-B28D-E4110F5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E6A-0858-4131-A32B-B3464E27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6C1-2636-4CC1-B6A1-57141274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6BFEA-A6F6-4924-85CF-FC443EC9E5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79781-D66B-4A1B-A893-0C8DAD25FEA1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4:31:48Z</dcterms:created>
  <dc:creator>최봉수</dc:creator>
  <dc:description/>
  <dc:language>en-US</dc:language>
  <cp:lastModifiedBy>맛있다 군만두</cp:lastModifiedBy>
  <dcterms:modified xsi:type="dcterms:W3CDTF">2024-09-24T08:17:08Z</dcterms:modified>
  <cp:revision>3</cp:revision>
  <dc:subject/>
  <dc:title>슬라이드 1</dc:title>
</cp:coreProperties>
</file>